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2F2-72D5-4399-964B-9055BFD1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897-4094-46D1-B275-BE48728D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115-412B-4BA3-A5F2-E77B538C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4A0-5A73-46A3-848C-B5181FB7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6B4-20B0-482C-9805-BECC5D5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41D-7962-4526-8ABA-ACCACC56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130-EB4A-430E-8CCA-4ED65ED3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9B0-FFBF-4B57-9EC7-8648F396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9A4-9243-4DDE-AC77-C7614E42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D41-681A-4503-BC96-351B2869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A31-13F9-46AB-BE3F-7215FC4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B84-8495-4D72-9AA1-EE14B2CF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8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2353-4C1C-4790-8392-BBA965FAFC3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092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ici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33200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troducció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241128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are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49236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Proces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65164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Evaluació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73272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">
            <a:hlinkClick r:id="rId2" action="ppaction://hlinksldjump"/>
          </p:cNvPr>
          <p:cNvSpPr/>
          <p:nvPr/>
        </p:nvSpPr>
        <p:spPr>
          <a:xfrm>
            <a:off x="781200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rédit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" name="" descr=""/>
          <p:cNvPicPr/>
          <p:nvPr/>
        </p:nvPicPr>
        <p:blipFill>
          <a:blip r:embed="rId3"/>
          <a:stretch/>
        </p:blipFill>
        <p:spPr>
          <a:xfrm>
            <a:off x="6012000" y="404640"/>
            <a:ext cx="2076480" cy="7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5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25092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ici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133200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troducció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241128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are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49236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Proces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457200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565164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Evaluació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673272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">
            <a:hlinkClick r:id="rId9" action="ppaction://hlinksldjump"/>
          </p:cNvPr>
          <p:cNvSpPr/>
          <p:nvPr/>
        </p:nvSpPr>
        <p:spPr>
          <a:xfrm>
            <a:off x="7812000" y="6453360"/>
            <a:ext cx="1081080" cy="26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rédit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6012000" y="404640"/>
            <a:ext cx="2076480" cy="729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eb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Tema de la WebQues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4:16:48Z</dcterms:created>
  <dc:creator>MiCasaWeb</dc:creator>
  <dc:description/>
  <dc:language>en-US</dc:language>
  <cp:lastModifiedBy>MiCasaWeb</cp:lastModifiedBy>
  <dcterms:modified xsi:type="dcterms:W3CDTF">2006-02-09T02:51:04Z</dcterms:modified>
  <cp:revision>3</cp:revision>
  <dc:subject/>
  <dc:title>WebQuest</dc:title>
</cp:coreProperties>
</file>