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EF0-A589-4966-8A38-48CF180B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49F-52E2-400F-97B0-A4F6133F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F03-853B-4B39-B6F7-E9C19DEB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624-4F05-4613-BD53-EEDFE4EF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FA4B-4A07-4E81-8B59-A78DFED9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A5CF-DA4F-436B-B2A9-87852A4A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7A51-54B4-479B-A44D-9A34B2DD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7611-01D5-4B1E-BA80-7A588EA6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4AE1-E1B9-4BFB-B81F-982A7791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04A2-EBAF-4F3A-8D85-E7546D4A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7644-3B79-44C6-B48E-FA73530C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176-93DB-4C05-BFC8-95ED6E47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04AB-0E63-43D7-92AE-20E6C0BB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3EBA-6419-474E-B6D3-8161C952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B6B9-08E6-4B5A-ABC8-A9EA955E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A41A-FF44-4958-9BDF-E67CCF14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3A2D-89BA-4FED-9D9B-A3CF7FBC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342-A86F-4BDD-9BFD-5214106A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302F-29FD-4E4A-A18C-0618B520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11DB-1B4F-4235-B929-D76A0F43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01D-CF87-492F-B749-DBB3AA0C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CC2-0B17-4D4C-BD36-08A86515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6FB-7ED3-469C-A02E-C2A8418F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D84-1B78-4AAC-8CC8-96E89A1E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11E2-8903-498B-BDEA-CD75541E39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1F55-7C31-4B64-9EA4-73389D2240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onotype Corsiva"/>
              </a:rPr>
              <a:t>SHIP LOADS AND STRESS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GROUP B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Bhullar Kunwar Puneet Sin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Krishnan Prash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Kulhari Sund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Mahadik Ro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TOR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hen a ship is subjected to a twisting moment, it is said to be in Tor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Ship heading obliquely(45 degrees) to a wave will be subjected to righting moments of opposite direction  at its end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tends to twist the hull putting it in Tor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a result of Dynam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496040" cy="39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entury"/>
              </a:rPr>
              <a:t>STRESSES DUE TO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Century"/>
              </a:rPr>
              <a:t>WATER PRESS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ater pressure increases with depth and tends to set in the ship’s plating below the water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ransverse section of a ship is subjected to static pressure  from the surrounding wa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Considerable distortion of structure can occur in absence of adequate stiffen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a result of Stat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05936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entury"/>
              </a:rPr>
              <a:t>STRESSES DUE TO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Century"/>
              </a:rPr>
              <a:t>DRY-DOCKING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0388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ends to set the keel upwar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Due to the up-thrust of the keel block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endency for the ship’s sides to bulge outwar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Bilges tend to sa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a result of Stat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SLAMMING OR POUND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hile heaving or pitching, the forward end leaves and re-enters the water with a slamming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Flat areas of plating are brought into violent contact with water at a very acute ang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ere is a loud bang and the ship shud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Momentum of the ship receives a check and energy is imparted to the ship girder to make it vibr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 is also known as pounding and is a result of Dynam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396252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SLAMM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76920" y="1066680"/>
            <a:ext cx="3609720" cy="2705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743200" y="3886200"/>
            <a:ext cx="3562200" cy="2676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80880" y="1066680"/>
            <a:ext cx="3562560" cy="26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4864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SLAMMING OR POUND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PANT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Movement of waves along a ship causes fluctuations in water pressure on the pl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tends to create an in-and-out movement of the shell plating, known as pan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Effect is particularly evident at the bows as the ship pushes its way through the wat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Pitching motion of the ship produces additional variations in water pressure, particularly at the bow and stern, which also causes panting of the pl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381024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Century"/>
              </a:rPr>
              <a:t>With the aid of diagrams, describe the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Century"/>
              </a:rPr>
              <a:t>various types of deformations in ship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Century"/>
              </a:rPr>
              <a:t>structures due to external forces and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Century"/>
              </a:rPr>
              <a:t>classify them as due to Static or Dynamic forces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entury"/>
              </a:rPr>
              <a:t>The ship at sea or lying in still water is constantly being subjected to a wide variety of stresses and strains, which result from the action of forces from outside and within the ship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Century"/>
              </a:rPr>
              <a:t>These forces may initially be classified int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Century"/>
              </a:rPr>
              <a:t>STATIC FORCES</a:t>
            </a: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Century"/>
              </a:rPr>
              <a:t>DYNAMIC FORCES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STATIC FORCES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ese are due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Internal forces resulting from structural weight, cargo and machinery we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External static forces including the hydrostatic pressure of the water on the h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DYNAMIC</a:t>
            </a:r>
            <a:r>
              <a:rPr b="0" lang="en-US" sz="4400" spc="-1" strike="noStrike">
                <a:solidFill>
                  <a:srgbClr val="b2b2b2"/>
                </a:solidFill>
                <a:latin typeface="X-Files"/>
              </a:rPr>
              <a:t> </a:t>
            </a: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FOR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ey result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e ship’s motion at s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e action of wind and wa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e effects of operating machin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DEGREES OF FREEDO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116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A ship is free to move about six degrees of free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ree linear and three rotat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Various forces acting on ship are constantly varying in degree and freque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is movement of the ship introduces dynamic forces which result in stresses on the ship’s 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4560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HOGG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ave crest at mid-ships, buoyancy in this region is incre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ave trough at the ends of the ship, buoyancy is reduc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loading condition will result in a significantly increased bending mo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causes the ship to ho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Extreme condition giving maximum bending moment in a ship’s stru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a result of Dynam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000240" cy="1047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562720" y="2438280"/>
            <a:ext cx="334476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SAGG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651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ave trough at mid-ships, buoyancy in this region is reduc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ave crest at the ends of ship, buoyancy is incre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loading condition will result in a significantly increased bending mo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causes the ship to sa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a result of Dynam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3232080" cy="1047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410080" y="2362320"/>
            <a:ext cx="3467160" cy="42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RACK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4956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hen a ship rolls, it results in forces tending to distort it transverse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may cause deformation at corn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Deck tends to move laterally relative to bottom stru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Shell on one side tends to move vertically relative to other si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termed rac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Greatest effect felt when ship is in light or ballast condi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a result of Dynam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410080" y="990720"/>
            <a:ext cx="2819520" cy="2209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4191120" cy="28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iloy</cp:lastModifiedBy>
  <dcterms:modified xsi:type="dcterms:W3CDTF">2005-08-14T11:53:2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