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66B-D479-4B56-B2CE-379CE2C1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829-30E1-4CC2-941F-3B4D4D61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B86-6EB1-4A44-B0E5-2EB2025A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239-494F-478E-AFCA-12F0A882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6829-99BE-4DC3-90F5-E638D662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88C7-13D8-4738-BD53-0559B004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DEB-3A0B-4F96-8F24-0C478992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285A-3950-4C8B-8449-6C74F43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E0C-AA46-426C-B9F9-BA0CB04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BA6-CC3F-4401-A568-5C352BC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0C17-87F6-4BBC-9275-81D46E9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1D2-C648-4BF1-A7BE-CF12B69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0694-EFC5-4185-9916-DC93569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18A5-0FB2-438C-94D4-800B8AE3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1B0-A52D-49CD-B8CB-F106F1B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F269-9525-4A8E-956B-0B55B734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6BDA-E14B-4937-883A-178829F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CEF-02C4-4BB6-9588-23364C0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20A-4493-4341-A74E-204F12A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922-70CA-43AB-B095-110F5946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D12-BF77-4F7F-88F8-C339EB0E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1DD-407D-4C00-BB8F-A000B5A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46E-88A5-43BF-A4DF-8F57064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19E-28ED-45D1-8F8C-763D964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E52-2996-4673-B036-B8237F311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DF28-C12F-45B3-A308-DA8F6942D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onotype Corsiva"/>
              </a:rPr>
              <a:t>SHIP LOADS AND STRESS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ROUP 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Bhullar Kunwar Puneet Sin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rishnan Prash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Kulhari Sund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ahadik Ro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TOR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is subjected to a twisting moment, it is said to be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ip heading obliquely(45 degrees) to a wave will be subjected to righting moments of opposite direction  at its end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twist the hull putting it in Tor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4960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WATER PRESS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ter pressure increases with depth and tends to set in the ship’s plating below the wate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ransverse section of a ship is subjected to static pressure  from the surrounding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Considerable distortion of structure can occur in absence of adequate stiffe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9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STRESSES DUE TO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Century"/>
              </a:rPr>
              <a:t>DRY-DOCK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s to set the keel up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ue to the up-thrust of the keel bloc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endency for the ship’s sides to bulge outwa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Bilges tend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Stat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ile heaving or pitching, the forward end leaves and re-enters the water with a slamming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Flat areas of plating are brought into violent contact with water at a very acut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re is a loud bang and the ship shud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mentum of the ship receives a check and energy is imparted to the ship girder to make it vib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 is also known as pounding and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3609720" cy="270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562200" cy="2676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356256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864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LAMMING OR POU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PAN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Movement of waves along a ship causes fluctuations in water pressure on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tends to create an in-and-out movement of the shell plating, known as pan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ffect is particularly evident at the bows as the ship pushes its way through the wa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Pitching motion of the ship produces additional variations in water pressure, particularly at the bow and stern, which also causes panting of the p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81024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With the aid of diagrams, describe the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various types of deformations in ship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structures due to external forces and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Century"/>
              </a:rPr>
              <a:t>classify them as due to Static or Dynamic force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 ship at sea or lying in still water is constantly being subjected to a wide variety of stresses and strains, which result from the action of forces from outside and within the ship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These forces may initially be classified int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Century"/>
              </a:rPr>
              <a:t>DYNAMIC FORCES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TATIC FORCES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se are due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Internal forces resulting from structural weight, cargo and machinery 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External static forces including the hydrostatic pressure of the water on the h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YNAMIC</a:t>
            </a:r>
            <a:r>
              <a:rPr b="0" lang="en-US" sz="4400" spc="-1" strike="noStrike">
                <a:solidFill>
                  <a:srgbClr val="b2b2b2"/>
                </a:solidFill>
                <a:latin typeface="X-Files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FO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y result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ship’s motion at s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action of wind and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e effects of operating machin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DEGREES OF FREED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1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A ship is free to move about six degrees of free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ree linear and three rotat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Various forces acting on ship are constantly varying in degree and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This movement of the ship introduces dynamic forces which result in stresses on the ship’s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560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HO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mid-ships, buoyancy in this region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the ends of the ship, buoyancy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ho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Extreme condition giving maximum bending moment in a ship’s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0024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334476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SAG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651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trough at mid-ships, buoyancy in this region is re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ave crest at the ends of ship, buoyancy is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loading condition will result in a significantly increased bending mo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causes the ship to s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32080" cy="104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46716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entury"/>
              </a:rPr>
              <a:t>RAC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When a ship rolls, it results in forces tending to distort it transvers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may cause deformation at corn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Deck tends to move laterally relative to bottom stru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Shell on one side tends to move vertically relative to other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termed r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Greatest effect felt when ship is in light or ballast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is is a result of Dynamic fo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28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MS-DO 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iloy</cp:lastModifiedBy>
  <dcterms:modified xsi:type="dcterms:W3CDTF">2005-08-14T11:53:2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