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F5B-3516-4B24-8A93-DCC99C49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E9B-2FF4-4867-8534-DBB01AF5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510-524C-4743-8B68-D115C0F3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DC8-BD05-4BFD-9640-332B92B9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CE28-B13F-4EE9-B08A-5BBEFC00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6A5D-621F-4148-AE4E-66A09A15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EBA4-1E31-417F-AC8C-3FBC0AC4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149E-5AD4-4D8E-9838-60CB75A9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B666-0072-4C07-86B4-6FB882BA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CA45-12FC-4C70-A4BF-C221F10A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DCBF-2A88-465B-8D70-1CDFBF2C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51C-70A9-4EC7-94D4-8B57A5E1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FBE7-60AE-44FA-9B4A-72D7FC2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6595-CA82-41A1-A710-DB544F0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4EB7-BE4F-4AE9-9484-3709C6D7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6D61-75B6-4074-886E-62EEC051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0590-6A7C-4A09-A1D1-2A37EA53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5E9-3038-4C7A-B3DB-2C721906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81B-1484-418F-8EFF-5E2F7F9E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723-E202-44B3-AF24-C1073839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5A3-4DE2-4EC7-9EC9-0F677AC2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157-E8B4-4968-9806-A42F7CAD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E96-F5E8-4988-B8E1-0026582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964-7B91-49D2-BFC0-18B8A00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05D8-C313-4765-9A76-C6DFD9AF24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5D41-FD66-4B0C-9E8D-C78D698DEC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onotype Corsiva"/>
              </a:rPr>
              <a:t>SHIP LOADS AND STRESS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GROUP 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Bhullar Kunwar Puneet Sin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Krishnan Prash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Kulhari Sund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ahadik Ro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TOR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hen a ship is subjected to a twisting moment, it is said to be in Tor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Ship heading obliquely(45 degrees) to a wave will be subjected to righting moments of opposite direction  at its end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tends to twist the hull putting it in Tor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496040" cy="39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entury"/>
              </a:rPr>
              <a:t>STRESSES DUE TO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Century"/>
              </a:rPr>
              <a:t>WATER PRESS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ter pressure increases with depth and tends to set in the ship’s plating below the water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ransverse section of a ship is subjected to static pressure  from the surrounding wa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Considerable distortion of structure can occur in absence of adequate stiffe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Stat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05936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entury"/>
              </a:rPr>
              <a:t>STRESSES DUE TO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Century"/>
              </a:rPr>
              <a:t>DRY-DOCK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0388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ends to set the keel upwa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Due to the up-thrust of the keel bloc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endency for the ship’s sides to bulge outwa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Bilges tend to s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Stat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LAMMING OR POU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hile heaving or pitching, the forward end leaves and re-enters the water with a slamming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Flat areas of plating are brought into violent contact with water at a very acute ang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ere is a loud bang and the ship shud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Momentum of the ship receives a check and energy is imparted to the ship girder to make it vibr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 is also known as pounding and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396252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LAM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76920" y="1066680"/>
            <a:ext cx="3609720" cy="2705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3562200" cy="2676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3562560" cy="26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864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LAMMING OR POU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PAN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Movement of waves along a ship causes fluctuations in water pressure on the pl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tends to create an in-and-out movement of the shell plating, known as pan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Effect is particularly evident at the bows as the ship pushes its way through the wa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Pitching motion of the ship produces additional variations in water pressure, particularly at the bow and stern, which also causes panting of the pl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81024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Century"/>
              </a:rPr>
              <a:t>With the aid of diagrams, describe the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Century"/>
              </a:rPr>
              <a:t>various types of deformations in ship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Century"/>
              </a:rPr>
              <a:t>structures due to external forces and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Century"/>
              </a:rPr>
              <a:t>classify them as due to Static or Dynamic force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entury"/>
              </a:rPr>
              <a:t>The ship at sea or lying in still water is constantly being subjected to a wide variety of stresses and strains, which result from the action of forces from outside and within the ship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Century"/>
              </a:rPr>
              <a:t>These forces may initially be classified int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Century"/>
              </a:rPr>
              <a:t>STATIC FORCES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Century"/>
              </a:rPr>
              <a:t>DYNAMIC FORCES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TATIC FORCES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se are due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Internal forces resulting from structural weight, cargo and machinery we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External static forces including the hydrostatic pressure of the water on the h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DYNAMIC</a:t>
            </a:r>
            <a:r>
              <a:rPr b="0" lang="en-US" sz="4400" spc="-1" strike="noStrike">
                <a:solidFill>
                  <a:srgbClr val="b2b2b2"/>
                </a:solidFill>
                <a:latin typeface="X-Files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FOR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y result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 ship’s motion at s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 action of wind and w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 effects of operating machin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DEGREES OF FREED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116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A ship is free to move about six degrees of free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ree linear and three rotat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Various forces acting on ship are constantly varying in degree and freque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is movement of the ship introduces dynamic forces which result in stresses on the ship’s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4560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HOGG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ve crest at mid-ships, buoyancy in this region is incre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ve trough at the ends of the ship, buoyancy is reduc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loading condition will result in a significantly increased bending mo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causes the ship to ho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Extreme condition giving maximum bending moment in a ship’s stru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000240" cy="1047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334476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AGG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651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ve trough at mid-ships, buoyancy in this region is reduc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ve crest at the ends of ship, buoyancy is incre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loading condition will result in a significantly increased bending mo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causes the ship to s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232080" cy="104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46716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RAC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hen a ship rolls, it results in forces tending to distort it transverse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may cause deformation at corn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Deck tends to move laterally relative to bottom stru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Shell on one side tends to move vertically relative to other s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termed r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Greatest effect felt when ship is in light or ballast condi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10080" y="990720"/>
            <a:ext cx="281952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91120" cy="28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iloy</cp:lastModifiedBy>
  <dcterms:modified xsi:type="dcterms:W3CDTF">2005-08-14T11:53:2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