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9B3A6-2BE7-461C-835D-BB3F98A47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23DC-55CF-4909-80C6-88C1DEDBF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783E1-C2B1-4AFC-860E-C9A1625DA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100CA-186B-43C5-8C79-2355A90D1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53056-D563-4B5E-B43C-6E8C5FB4E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A3FF-4946-4E7B-BF7A-8787A1457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6D154-6CDD-4C91-9DF5-C80555BC8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3EE28-91AA-448D-A0FF-0132840AC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60820-6674-4494-8D57-B369AB55B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ED3EB-7542-4690-AB5B-B29E455A0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B4171-0CC9-490E-A6C5-1B0B00CA6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ABB7-B6C5-4E20-A099-B6E18236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A3038-84CD-4745-9231-8F3D0EF25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998C4-3BA1-405A-AD6C-A4B4B81C7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A5EDC-45DF-4ED0-93B5-3563FBA3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8BB16-29CE-4033-AD24-E93C0C030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D7FCE-F119-4A7E-838B-4883AC194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53547-41FA-4A63-A695-8F71CE1D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4ABA-E338-4952-B0D0-8224B88E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DAB4-12D8-4E89-BBF7-8E3678B1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C0F4E-E215-4774-B581-D347140E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7F8B-3B3A-465E-A0E0-CE029FFC3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17BE-C495-4DB2-9474-B855B154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FD52-E2A5-4E9F-BC41-CD376BF87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26C4-7B35-471E-A9DE-3EF125C8EF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077B-342C-43A1-8270-C48C5CB468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IP LOADS AND STRESSE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INGUISH BETWEEN STATIC AND DYNAMIC LOAD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ructures which resist transverse stresses are transverse bulkheads, solid floors in the double bottom, deck beams, side frames and the brackets between them and adjacent structure such as tank top flooring or margin pla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YNAMIC FORCES</a:t>
            </a:r>
            <a:br>
              <a:rPr sz="4000"/>
            </a:b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ynamic loads are loads that vary in time with periods ranging from a few seconds to several minutes. They may also be time varying loads of sufficiently high frequency that may induce vibratory response of the ship structu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se can be broken dowin into the following component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 induced hull pressure varia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ll pressure variations caused by transient ship mo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ertial reactions resulting from the acceleration of the mass of the ship and its cont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dynamic loads induced by propulsive device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s imparted to the hull by reciprocating or unbalanced machiner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 elastic loads resulting from interaction of appendages with the flow past the ship.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 induced loads due primarily to short waves whose frequency of encounter overlaps the lower natural frequencies of hull vibration, called spring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ip’s motion in the sea</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ion of the wind and the waves</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of operating machin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hip is free to move with 6 degrees of freedom, 3 linear and 3 rotational. The various forces acting on a ship are constantly varying in degree and frequency. Consider a ship moving along waves. Distribution of buoyancy will vary as a result of the waves. The movement of the ship will also introduce dynamic forces. The ship’s structure will be subjected to constantly fluctuating stresses as waves move along the ship’s leng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ll girder bending in waves takes place continuously throughout the seagoing lifetime of any ship. It has been estimated that in a twenty ship lifetime, a typical ship undergoes on the order of hundred million such bending revers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RODUCTION</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ze and principal characteristics of a ship are determined primarily by its mission, intended service, and cost. In addition to basic functional considerations there are requirements such as stability, low resistance, high propulsive efficiency, good seakeeping, and various navigational restrictions on draft or beam, all of which influence the choice of dimensions and form. The ship's structure must be designed, within the basic constraints, to sustain all the loads expected to arise in its seagoing environment. In contrast to land structures, the ship does not rest on a fixed foundation but derives its entire support from buoyant pressures exerted by a dynamic and ever changing ocean environment, which plays both roles of friend and foe for the ship.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ads that the ship structure must be designed to withstand have many sources. There are static components which consist principally of the weight and buoyancy of the ship in calm waters. There are dynamic components caused by wave induced motions of the ship, and by slamming in waves, as well as vibratory loads by the propeller and machinery, all of which are of different frequency rang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LASSIFICATION</a:t>
            </a:r>
            <a:br>
              <a:rPr sz="4000"/>
            </a:b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is convenient to divide the loads acting on the ship structure into two main categori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c For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Fo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 will now look into each of these forces in deta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TIC FORCE</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loads are loads that change only when the weight of the ship or its weight distribution changes. These include: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ight of the ship and its contents.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buoyancy of the ship at rest or moving.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al loads resulting from temperature gradients within the hull.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ntrated loads caused by dry docking or ground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result from structural weight, cargo and machinery weight.</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rnal static forces include the hydrostatic pressure of the water on the hu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nsider a ship floating in calm water. Two different forces will be acting upon it along its length. The weight of the ship and its contents will be acting vertically downwards. The buoyancy of vertical component of hydrostatic pressure will be acting upwards. In total, the two forces exactly equal and balance one another such that the ship floats at a particular draft. The centre of buoyancy force and the centre of the weight will be vertically in lin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ransverse section of  a ship is subjected to static pressure from the surrounding water in addition to the resulting loading from the weight of the structure, cargo etc. although transverse stresses are of lesser magnitude than longitudinal stresses, considerable distortion of the structure could occur, in the absence of adequate stiffening.</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9:38:00Z</dcterms:created>
  <dc:creator>Nihar</dc:creator>
  <dc:description/>
  <dc:language>en-US</dc:language>
  <cp:lastModifiedBy>Nihar</cp:lastModifiedBy>
  <dcterms:modified xsi:type="dcterms:W3CDTF">2005-08-14T10:41:47Z</dcterms:modified>
  <cp:revision>3</cp:revision>
  <dc:subject/>
  <dc:title>SHIP LOADS AND STRESSES</dc:title>
</cp:coreProperties>
</file>