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8BB48-6CA5-4914-8C06-27BACD34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711D-6C8F-44AD-8156-AA9CFC6D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88355-BD57-4EFA-AEF6-04DC73A4B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6A989-96AB-45AE-8766-9C11B17DB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657488-207E-4C6B-B3E6-C16FA9BB9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2D096E-EDFC-4E71-966D-29E41A169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3D67C3-73CE-4597-953F-09583CA76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E84C28-5408-484A-B27D-620A9D3C1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626CB0-4967-4CA3-865A-7C3581DA9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09872F-0648-4656-8822-56D3C4EA3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CF9999-6D50-4A73-A278-7282D844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5B8FB-A926-44D8-BEAA-E478F85D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3FBBDE-1FFB-43DE-8824-0DE00CC5C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13D3E6-EFD7-468B-A762-D972916D9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BD7AA0-275D-4C23-9C5F-9D7E3D565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0EA246-FBF6-4470-A158-1E3698E5A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E278AD-2915-444A-A5D4-8A73F1749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32B72-C226-4818-9252-A256DC6D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A941-D3E3-4AE0-97B1-4F0BCA44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966E-81CC-4E28-B9F9-B181B28F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8923-6647-4126-92F9-07B0E58D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F2E5-8C4E-4691-ACE9-B5853CD8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6F7C-7427-4AD6-93C7-50B5C42C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4568-CC5B-4BEA-AED3-B06456AC0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EBB2-EC4F-45EA-88EA-A5FAF59E21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4145-170F-42ED-B91E-10DBA8E631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SHIP LOADS AND STRESSES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2666880"/>
            <a:ext cx="64008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OUP-E</a:t>
            </a:r>
            <a:endParaRPr b="0" lang="en-US" sz="28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MBERS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JUDE RINAL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 JUDE PRADEEP</a:t>
            </a:r>
            <a:r>
              <a:rPr b="0" i="1" lang="en-US" sz="2000" spc="-1" strike="noStrike">
                <a:solidFill>
                  <a:srgbClr val="ffffff"/>
                </a:solidFill>
                <a:latin typeface="Arial"/>
              </a:rPr>
              <a:t>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3 AARYL D’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4 SWAROOP SUNDER</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pic>
        <p:nvPicPr>
          <p:cNvPr id="143" name="" descr=""/>
          <p:cNvPicPr/>
          <p:nvPr/>
        </p:nvPicPr>
        <p:blipFill>
          <a:blip r:embed="rId1"/>
          <a:stretch/>
        </p:blipFill>
        <p:spPr>
          <a:xfrm>
            <a:off x="2246400" y="968400"/>
            <a:ext cx="464976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228600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in with aid of neat labeled sketches stresses due to water pressure, dry-docking, localized  loading, discontinuity in lo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water press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 pressure increases with depth and tends to set in the ship’s plating below the water line. A transverse section of a ship is subjected to a static pressure from the surrounding water in addition to the loading resulting from the weight of the structure, cargo, etc. Although transverse stresses are of lesser magnitude than longitudinal stresses, considerable distortion of the structure could occur, in absence of adequate stiffe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Stresses due to water pressure</a:t>
            </a:r>
            <a:r>
              <a:rPr b="0" lang="en-US" sz="3200" spc="-1" strike="noStrike">
                <a:solidFill>
                  <a:srgbClr val="e3e3ff"/>
                </a:solidFill>
                <a:latin typeface="Arial"/>
              </a:rPr>
              <a:t> </a:t>
            </a:r>
            <a:endParaRPr b="0" lang="en-US" sz="3200" spc="-1" strike="noStrike">
              <a:solidFill>
                <a:srgbClr val="e3e3ff"/>
              </a:solidFill>
              <a:latin typeface="Arial"/>
            </a:endParaRPr>
          </a:p>
        </p:txBody>
      </p:sp>
      <p:pic>
        <p:nvPicPr>
          <p:cNvPr id="147" name="" descr=""/>
          <p:cNvPicPr/>
          <p:nvPr/>
        </p:nvPicPr>
        <p:blipFill>
          <a:blip r:embed="rId1"/>
          <a:stretch/>
        </p:blipFill>
        <p:spPr>
          <a:xfrm>
            <a:off x="1828800" y="1828800"/>
            <a:ext cx="543096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6858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ry-dock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ry- docking tends to set the keel upwards because of the up-thrust of the keel  blocks. There is a tendency for the ship’s  sides to bulge outwards and for the bilges to sag.</a:t>
            </a:r>
            <a:endParaRPr b="0" lang="en-US" sz="1800" spc="-1" strike="noStrike">
              <a:solidFill>
                <a:srgbClr val="ffffff"/>
              </a:solidFill>
              <a:latin typeface="Arial"/>
            </a:endParaRPr>
          </a:p>
        </p:txBody>
      </p:sp>
      <p:pic>
        <p:nvPicPr>
          <p:cNvPr id="149" name="" descr=""/>
          <p:cNvPicPr/>
          <p:nvPr/>
        </p:nvPicPr>
        <p:blipFill>
          <a:blip r:embed="rId1"/>
          <a:stretch/>
        </p:blipFill>
        <p:spPr>
          <a:xfrm>
            <a:off x="2438280" y="2057400"/>
            <a:ext cx="472464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280"/>
            <a:ext cx="82296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localized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avy weights, such as equipment in the machinery spaces are particular items of general cargo, can give rise to stresses due to localized distortion of the transverse section. The fitting of transverse bulkheads, deep plate floors and web frames reduce such stresses. </a:t>
            </a:r>
            <a:endParaRPr b="0" lang="en-US" sz="1800" spc="-1" strike="noStrike">
              <a:solidFill>
                <a:srgbClr val="ffffff"/>
              </a:solidFill>
              <a:latin typeface="Arial"/>
            </a:endParaRPr>
          </a:p>
        </p:txBody>
      </p:sp>
      <p:pic>
        <p:nvPicPr>
          <p:cNvPr id="151" name="" descr=""/>
          <p:cNvPicPr/>
          <p:nvPr/>
        </p:nvPicPr>
        <p:blipFill>
          <a:blip r:embed="rId1"/>
          <a:stretch/>
        </p:blipFill>
        <p:spPr>
          <a:xfrm>
            <a:off x="2392200" y="1752480"/>
            <a:ext cx="43578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iscontinuity</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tress concentration is a localized area in a structure at which the stress is significantly higher than in the surrounding material. </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discontinuity in ships are</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t into ship unintentionally by the methods of construction e.g. rolling, welding, casting.</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into structural design deliberately for reasons of architecture, use, access, e.g. superstructures, deckhouses, hatch openings, door opening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If the ends of the superstructures are ended abruptly, there is a major discontinuity of the ships structure, which may give rise to localized stresses resulting in cracking of the plat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Holes cut in the deck plating create areas of high local stress due to discontinuity created by the open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The high stresses at the corner of the hatch may result in cra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xplain with the aid of neat labeled sketches how hogging,sagging,racking and torsion affect the ship’s structure. </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HOGGING</a:t>
            </a:r>
            <a:endParaRPr b="0" lang="en-US" sz="4400" spc="-1" strike="noStrike">
              <a:solidFill>
                <a:srgbClr val="e3e3ff"/>
              </a:solidFill>
              <a:latin typeface="Arial"/>
            </a:endParaRPr>
          </a:p>
        </p:txBody>
      </p:sp>
      <p:sp>
        <p:nvSpPr>
          <p:cNvPr id="126" name=""/>
          <p:cNvSpPr/>
          <p:nvPr/>
        </p:nvSpPr>
        <p:spPr>
          <a:xfrm>
            <a:off x="838080" y="1600200"/>
            <a:ext cx="74678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ogging due to wav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 This will be an extreme condition giving the maximum bending moment that can occur in the ship’s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HOGGING DUE TO WAVES</a:t>
            </a:r>
            <a:endParaRPr b="0" lang="en-US" sz="32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9" name="" descr=""/>
          <p:cNvPicPr/>
          <p:nvPr/>
        </p:nvPicPr>
        <p:blipFill>
          <a:blip r:embed="rId1"/>
          <a:stretch/>
        </p:blipFill>
        <p:spPr>
          <a:xfrm>
            <a:off x="1246320" y="2376360"/>
            <a:ext cx="665136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u="sng">
                <a:solidFill>
                  <a:srgbClr val="ffffff"/>
                </a:solidFill>
                <a:uFillTx/>
                <a:latin typeface="Arial"/>
              </a:rPr>
              <a:t>HOGGING DUE TO DISCONTINUITY IN LOADING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a ship loaded with the weights concentrated at the bow and the stern, which tends to droop. This leads to hogging of the ship hul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131" name="" descr=""/>
          <p:cNvPicPr/>
          <p:nvPr/>
        </p:nvPicPr>
        <p:blipFill>
          <a:blip r:embed="rId1"/>
          <a:stretch/>
        </p:blipFill>
        <p:spPr>
          <a:xfrm>
            <a:off x="1066680" y="2971800"/>
            <a:ext cx="69343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SAGGING</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t>
            </a:r>
            <a:r>
              <a:rPr b="0" lang="en-US" sz="1800" spc="-1" strike="noStrike" u="sng">
                <a:solidFill>
                  <a:srgbClr val="ffffff"/>
                </a:solidFill>
                <a:uFillTx/>
                <a:latin typeface="Arial"/>
              </a:rPr>
              <a:t>Sagging due to wav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cause the ship to sag.</a:t>
            </a:r>
            <a:endParaRPr b="0" lang="en-US" sz="1800" spc="-1" strike="noStrike">
              <a:solidFill>
                <a:srgbClr val="ffffff"/>
              </a:solidFill>
              <a:latin typeface="Arial"/>
            </a:endParaRPr>
          </a:p>
        </p:txBody>
      </p:sp>
      <p:pic>
        <p:nvPicPr>
          <p:cNvPr id="134" name="" descr=""/>
          <p:cNvPicPr/>
          <p:nvPr/>
        </p:nvPicPr>
        <p:blipFill>
          <a:blip r:embed="rId1"/>
          <a:stretch/>
        </p:blipFill>
        <p:spPr>
          <a:xfrm>
            <a:off x="1295280" y="3809880"/>
            <a:ext cx="65152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u="sng">
                <a:solidFill>
                  <a:srgbClr val="ffffff"/>
                </a:solidFill>
                <a:uFillTx/>
                <a:latin typeface="Arial"/>
              </a:rPr>
              <a:t>Sagging due to discontinuity in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heavy weights concentrated at the midships of a ship. The middle hull part tends to droop more than the ends. This causes sagging of ship hull.</a:t>
            </a:r>
            <a:endParaRPr b="0" lang="en-US" sz="1800" spc="-1" strike="noStrike">
              <a:solidFill>
                <a:srgbClr val="ffffff"/>
              </a:solidFill>
              <a:latin typeface="Arial"/>
            </a:endParaRPr>
          </a:p>
        </p:txBody>
      </p:sp>
      <p:pic>
        <p:nvPicPr>
          <p:cNvPr id="136" name="" descr=""/>
          <p:cNvPicPr/>
          <p:nvPr/>
        </p:nvPicPr>
        <p:blipFill>
          <a:blip r:embed="rId1"/>
          <a:stretch/>
        </p:blipFill>
        <p:spPr>
          <a:xfrm>
            <a:off x="1143000" y="2971800"/>
            <a:ext cx="701028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RACKING</a:t>
            </a:r>
            <a:endParaRPr b="0" lang="en-US" sz="4400" spc="-1" strike="noStrike">
              <a:solidFill>
                <a:srgbClr val="e3e3ff"/>
              </a:solidFill>
              <a:latin typeface="Arial"/>
            </a:endParaRPr>
          </a:p>
        </p:txBody>
      </p:sp>
      <p:sp>
        <p:nvSpPr>
          <p:cNvPr id="138" name="PlaceHolder 2"/>
          <p:cNvSpPr>
            <a:spLocks noGrp="1"/>
          </p:cNvSpPr>
          <p:nvPr>
            <p:ph/>
          </p:nvPr>
        </p:nvSpPr>
        <p:spPr>
          <a:xfrm>
            <a:off x="609480" y="762120"/>
            <a:ext cx="8229600" cy="5333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 ship rolls in a seaway, it results in forces in the structure tending to distort it transversely and may cause deformation at the corners.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39" name="" descr=""/>
          <p:cNvPicPr/>
          <p:nvPr/>
        </p:nvPicPr>
        <p:blipFill>
          <a:blip r:embed="rId1"/>
          <a:stretch/>
        </p:blipFill>
        <p:spPr>
          <a:xfrm>
            <a:off x="1219320" y="2286000"/>
            <a:ext cx="62481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8380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sp>
        <p:nvSpPr>
          <p:cNvPr id="141" name="PlaceHolder 2"/>
          <p:cNvSpPr>
            <a:spLocks noGrp="1"/>
          </p:cNvSpPr>
          <p:nvPr>
            <p:ph/>
          </p:nvPr>
        </p:nvSpPr>
        <p:spPr>
          <a:xfrm>
            <a:off x="457200" y="2362320"/>
            <a:ext cx="8229600" cy="2286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ny body is subjected to a twisting moment, which is commonly referred to as torque, that body is said to be in ‘torsion’. A ship heading obliquely to a wave will be subjected to righting moments of opposite direction at its ends twisting the hull and putting it in ‘torsion’. In most ships, torsional moments and stresses are negligible but in ships with extremely wide and long deck openings they are significa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13:35:46Z</dcterms:created>
  <dc:creator>Vishwas Tomar</dc:creator>
  <dc:description/>
  <dc:language>en-US</dc:language>
  <cp:lastModifiedBy>Vishwas Tomar</cp:lastModifiedBy>
  <dcterms:modified xsi:type="dcterms:W3CDTF">2005-08-14T08:16:45Z</dcterms:modified>
  <cp:revision>9</cp:revision>
  <dc:subject/>
  <dc:title>SHIP LOADS AND STRESSES </dc:title>
</cp:coreProperties>
</file>