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A8914-91BA-45AC-AE45-B0A607744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D454D-01E4-4A93-8C17-A71CF5356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2B03A-9FB7-4303-8F3F-E454ABA4D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A5ECC-6AA0-48D3-8457-3E0C77CC4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2EB0D53-D90C-4F12-ACAB-BECDDA4E5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A60BBF2-F641-44FC-8632-77FDB5497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40AEDB0-9E30-44D7-A073-442DE5A1E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C56D2D-9E95-49A5-A7ED-07BC74153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401ABB8-97CB-42C3-B72F-77C07F131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4DFE0F8-F7E9-4FD5-ABD1-8CAEDB131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03BD89-AF33-4707-B393-C848BF620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AB51A-55B2-4EB7-89E2-F112D92C9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62F1C1A-9D54-474E-BD1F-CAD65CCC1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760E15-A1B7-497A-B7C2-79D7CD2AC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CA3F7FC-0EDD-4277-9170-426F80120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4656D2A-FA51-414F-86F7-9E024A0A44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00782EE-009F-495D-BD2F-F7F4DF7A6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CBAD0-D7CA-4481-ABFF-ADAFFD068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1B8EF-9652-46BA-BCD5-89E9BECF3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FCB5F-3651-4766-8365-E93C45CAA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78FCD-1904-4D12-A59C-688DCA30B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0E36A-D72F-414F-874C-17CBD2BD4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70D35-EDA4-4FDE-9F21-CC25F7048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A4B26-581E-4AC1-9C63-0B57EBC42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15A6-C6B9-4294-8767-A6759563DC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729A-20CA-4AD4-A2C4-7B4403AFDF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SHIP LOADS AND STRESSES </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2666880"/>
            <a:ext cx="6400800" cy="28195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y </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ROUP-E</a:t>
            </a:r>
            <a:endParaRPr b="0" lang="en-US" sz="28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EMBERS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1 JUDE RINALDO</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 JUDE PRADEEP</a:t>
            </a:r>
            <a:r>
              <a:rPr b="0" i="1" lang="en-US" sz="2000" spc="-1" strike="noStrike">
                <a:solidFill>
                  <a:srgbClr val="ffffff"/>
                </a:solidFill>
                <a:latin typeface="Arial"/>
              </a:rPr>
              <a:t>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3 AARYL D’SA</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4 SWAROOP SUNDER</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Arial"/>
              </a:rPr>
              <a:t>TORSION</a:t>
            </a:r>
            <a:endParaRPr b="0" lang="en-US" sz="4400" spc="-1" strike="noStrike">
              <a:solidFill>
                <a:srgbClr val="e3e3ff"/>
              </a:solidFill>
              <a:latin typeface="Arial"/>
            </a:endParaRPr>
          </a:p>
        </p:txBody>
      </p:sp>
      <p:pic>
        <p:nvPicPr>
          <p:cNvPr id="143" name="" descr=""/>
          <p:cNvPicPr/>
          <p:nvPr/>
        </p:nvPicPr>
        <p:blipFill>
          <a:blip r:embed="rId1"/>
          <a:stretch/>
        </p:blipFill>
        <p:spPr>
          <a:xfrm>
            <a:off x="2246400" y="968400"/>
            <a:ext cx="4649760" cy="491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2286000"/>
            <a:ext cx="822960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plain with aid of neat labeled sketches stresses due to water pressure, dry-docking, localized  loading, discontinuity in loa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Stresses due to water pressur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ater pressure increases with depth and tends to set in the ship’s plating below the water line. A transverse section of a ship is subjected to a static pressure from the surrounding water in addition to the loading resulting from the weight of the structure, cargo, etc. Although transverse stresses are of lesser magnitude than longitudinal stresses, considerable distortion of the structure could occur, in absence of adequate stiffen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3e3ff"/>
                </a:solidFill>
                <a:uFillTx/>
                <a:latin typeface="Arial"/>
              </a:rPr>
              <a:t>Stresses due to water pressure</a:t>
            </a:r>
            <a:r>
              <a:rPr b="0" lang="en-US" sz="3200" spc="-1" strike="noStrike">
                <a:solidFill>
                  <a:srgbClr val="e3e3ff"/>
                </a:solidFill>
                <a:latin typeface="Arial"/>
              </a:rPr>
              <a:t> </a:t>
            </a:r>
            <a:endParaRPr b="0" lang="en-US" sz="3200" spc="-1" strike="noStrike">
              <a:solidFill>
                <a:srgbClr val="e3e3ff"/>
              </a:solidFill>
              <a:latin typeface="Arial"/>
            </a:endParaRPr>
          </a:p>
        </p:txBody>
      </p:sp>
      <p:pic>
        <p:nvPicPr>
          <p:cNvPr id="147" name="" descr=""/>
          <p:cNvPicPr/>
          <p:nvPr/>
        </p:nvPicPr>
        <p:blipFill>
          <a:blip r:embed="rId1"/>
          <a:stretch/>
        </p:blipFill>
        <p:spPr>
          <a:xfrm>
            <a:off x="1828800" y="1828800"/>
            <a:ext cx="5430960" cy="39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09480" y="685800"/>
            <a:ext cx="82296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Stresses due to dry-dockin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ry- docking tends to set the keel upwards because of the up-thrust of the keel  blocks. There is a tendency for the ship’s  sides to bulge outwards and for the bilges to sag.</a:t>
            </a:r>
            <a:endParaRPr b="0" lang="en-US" sz="1800" spc="-1" strike="noStrike">
              <a:solidFill>
                <a:srgbClr val="ffffff"/>
              </a:solidFill>
              <a:latin typeface="Arial"/>
            </a:endParaRPr>
          </a:p>
        </p:txBody>
      </p:sp>
      <p:pic>
        <p:nvPicPr>
          <p:cNvPr id="149" name="" descr=""/>
          <p:cNvPicPr/>
          <p:nvPr/>
        </p:nvPicPr>
        <p:blipFill>
          <a:blip r:embed="rId1"/>
          <a:stretch/>
        </p:blipFill>
        <p:spPr>
          <a:xfrm>
            <a:off x="2438280" y="2057400"/>
            <a:ext cx="472464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880" y="152280"/>
            <a:ext cx="8229600" cy="502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Stresses due to localized loadin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eavy weights, such as equipment in the machinery spaces are particular items of general cargo, can give rise to stresses due to localized distortion of the transverse section. The fitting of transverse bulkheads, deep plate floors and web frames reduce such stresses. </a:t>
            </a:r>
            <a:endParaRPr b="0" lang="en-US" sz="1800" spc="-1" strike="noStrike">
              <a:solidFill>
                <a:srgbClr val="ffffff"/>
              </a:solidFill>
              <a:latin typeface="Arial"/>
            </a:endParaRPr>
          </a:p>
        </p:txBody>
      </p:sp>
      <p:pic>
        <p:nvPicPr>
          <p:cNvPr id="151" name="" descr=""/>
          <p:cNvPicPr/>
          <p:nvPr/>
        </p:nvPicPr>
        <p:blipFill>
          <a:blip r:embed="rId1"/>
          <a:stretch/>
        </p:blipFill>
        <p:spPr>
          <a:xfrm>
            <a:off x="2392200" y="1752480"/>
            <a:ext cx="435780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228600"/>
            <a:ext cx="8229600" cy="586728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Stresses due to discontinuity</a:t>
            </a: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stress concentration is a localized area in a structure at which the stress is significantly higher than in the surrounding material. </a:t>
            </a:r>
            <a:endParaRPr b="0" lang="en-US" sz="1800" spc="-1" strike="noStrike">
              <a:solidFill>
                <a:srgbClr val="ffffff"/>
              </a:solidFill>
              <a:latin typeface="Arial"/>
            </a:endParaRPr>
          </a:p>
          <a:p>
            <a:pPr marL="609480" indent="-60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types of discontinuity in ships are</a:t>
            </a:r>
            <a:endParaRPr b="0" lang="en-US" sz="1800" spc="-1" strike="noStrike">
              <a:solidFill>
                <a:srgbClr val="ffffff"/>
              </a:solidFill>
              <a:latin typeface="Arial"/>
            </a:endParaRPr>
          </a:p>
          <a:p>
            <a:pPr marL="609480" indent="-60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t into ship unintentionally by the methods of construction e.g. rolling, welding, casting.</a:t>
            </a:r>
            <a:endParaRPr b="0" lang="en-US" sz="1800" spc="-1" strike="noStrike">
              <a:solidFill>
                <a:srgbClr val="ffffff"/>
              </a:solidFill>
              <a:latin typeface="Arial"/>
            </a:endParaRPr>
          </a:p>
          <a:p>
            <a:pPr marL="609480" indent="-60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oduced into structural design deliberately for reasons of architecture, use, access, e.g. superstructures, deckhouses, hatch openings, door openings.</a:t>
            </a: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If the ends of the superstructures are ended abruptly, there is a major discontinuity of the ships structure, which may give rise to localized stresses resulting in cracking of the plating.</a:t>
            </a: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Holes cut in the deck plating create areas of high local stress due to discontinuity created by the opening.</a:t>
            </a: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The high stresses at the corner of the hatch may result in crack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60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Explain with the aid of neat labeled sketches how hogging,sagging,racking and torsion affect the ship’s structure. </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Arial"/>
              </a:rPr>
              <a:t>HOGGING</a:t>
            </a:r>
            <a:endParaRPr b="0" lang="en-US" sz="4400" spc="-1" strike="noStrike">
              <a:solidFill>
                <a:srgbClr val="e3e3ff"/>
              </a:solidFill>
              <a:latin typeface="Arial"/>
            </a:endParaRPr>
          </a:p>
        </p:txBody>
      </p:sp>
      <p:sp>
        <p:nvSpPr>
          <p:cNvPr id="126" name=""/>
          <p:cNvSpPr/>
          <p:nvPr/>
        </p:nvSpPr>
        <p:spPr>
          <a:xfrm>
            <a:off x="838080" y="1600200"/>
            <a:ext cx="746784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ogging due to waves</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 the wave crest is considered at mid-ships then the buoyancy in this region will be increased. With the wave trough positioned at the ends of the ship, the buoyancy here will be reduced. This loading condition will result in a significantly increased bending moment, which will cause the ship to hog. This will be an extreme condition giving the maximum bending moment that can occur in the ship’s struct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3e3ff"/>
                </a:solidFill>
                <a:uFillTx/>
                <a:latin typeface="Arial"/>
              </a:rPr>
              <a:t>HOGGING DUE TO WAVES</a:t>
            </a:r>
            <a:endParaRPr b="0" lang="en-US" sz="32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29" name="" descr=""/>
          <p:cNvPicPr/>
          <p:nvPr/>
        </p:nvPicPr>
        <p:blipFill>
          <a:blip r:embed="rId1"/>
          <a:stretch/>
        </p:blipFill>
        <p:spPr>
          <a:xfrm>
            <a:off x="1246320" y="2376360"/>
            <a:ext cx="6651360" cy="210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a:t>
            </a:r>
            <a:r>
              <a:rPr b="0" lang="en-US" sz="1800" spc="-1" strike="noStrike" u="sng">
                <a:solidFill>
                  <a:srgbClr val="ffffff"/>
                </a:solidFill>
                <a:uFillTx/>
                <a:latin typeface="Arial"/>
              </a:rPr>
              <a:t>HOGGING DUE TO DISCONTINUITY IN LOADING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sider a ship loaded with the weights concentrated at the bow and the stern, which tends to droop. This leads to hogging of the ship hull.</a:t>
            </a:r>
            <a:r>
              <a:rPr b="0" lang="en-US" sz="1800" spc="-1" strike="noStrike" u="sng">
                <a:solidFill>
                  <a:srgbClr val="ffffff"/>
                </a:solidFill>
                <a:uFillTx/>
                <a:latin typeface="Arial"/>
              </a:rPr>
              <a:t>                                                                                                                                                             </a:t>
            </a:r>
            <a:endParaRPr b="0" lang="en-US" sz="1800" spc="-1" strike="noStrike">
              <a:solidFill>
                <a:srgbClr val="ffffff"/>
              </a:solidFill>
              <a:latin typeface="Arial"/>
            </a:endParaRPr>
          </a:p>
        </p:txBody>
      </p:sp>
      <p:pic>
        <p:nvPicPr>
          <p:cNvPr id="131" name="" descr=""/>
          <p:cNvPicPr/>
          <p:nvPr/>
        </p:nvPicPr>
        <p:blipFill>
          <a:blip r:embed="rId1"/>
          <a:stretch/>
        </p:blipFill>
        <p:spPr>
          <a:xfrm>
            <a:off x="1066680" y="2971800"/>
            <a:ext cx="693432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Arial"/>
              </a:rPr>
              <a:t>SAGGING</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t>
            </a:r>
            <a:r>
              <a:rPr b="0" lang="en-US" sz="1800" spc="-1" strike="noStrike" u="sng">
                <a:solidFill>
                  <a:srgbClr val="ffffff"/>
                </a:solidFill>
                <a:uFillTx/>
                <a:latin typeface="Arial"/>
              </a:rPr>
              <a:t>Sagging due to wav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a heavy seaway, a ship may be supported at the ends by the crests of waves while the middle remains unsupported. If the wave trough is now considered at midships then the buoyancy in this region will be reduced. With the wave crest positioned at the ends of the ship, the buoyancy here will be increased. This loading condition will result in a bending moment which will cause the ship to sag.</a:t>
            </a:r>
            <a:endParaRPr b="0" lang="en-US" sz="1800" spc="-1" strike="noStrike">
              <a:solidFill>
                <a:srgbClr val="ffffff"/>
              </a:solidFill>
              <a:latin typeface="Arial"/>
            </a:endParaRPr>
          </a:p>
        </p:txBody>
      </p:sp>
      <p:pic>
        <p:nvPicPr>
          <p:cNvPr id="134" name="" descr=""/>
          <p:cNvPicPr/>
          <p:nvPr/>
        </p:nvPicPr>
        <p:blipFill>
          <a:blip r:embed="rId1"/>
          <a:stretch/>
        </p:blipFill>
        <p:spPr>
          <a:xfrm>
            <a:off x="1295280" y="3809880"/>
            <a:ext cx="65152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a:t>
            </a:r>
            <a:r>
              <a:rPr b="0" lang="en-US" sz="1800" spc="-1" strike="noStrike" u="sng">
                <a:solidFill>
                  <a:srgbClr val="ffffff"/>
                </a:solidFill>
                <a:uFillTx/>
                <a:latin typeface="Arial"/>
              </a:rPr>
              <a:t>Sagging due to discontinuity in loadin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sider heavy weights concentrated at the midships of a ship. The middle hull part tends to droop more than the ends. This causes sagging of ship hull.</a:t>
            </a:r>
            <a:endParaRPr b="0" lang="en-US" sz="1800" spc="-1" strike="noStrike">
              <a:solidFill>
                <a:srgbClr val="ffffff"/>
              </a:solidFill>
              <a:latin typeface="Arial"/>
            </a:endParaRPr>
          </a:p>
        </p:txBody>
      </p:sp>
      <p:pic>
        <p:nvPicPr>
          <p:cNvPr id="136" name="" descr=""/>
          <p:cNvPicPr/>
          <p:nvPr/>
        </p:nvPicPr>
        <p:blipFill>
          <a:blip r:embed="rId1"/>
          <a:stretch/>
        </p:blipFill>
        <p:spPr>
          <a:xfrm>
            <a:off x="1143000" y="2971800"/>
            <a:ext cx="701028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52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Arial"/>
              </a:rPr>
              <a:t>RACKING</a:t>
            </a:r>
            <a:endParaRPr b="0" lang="en-US" sz="4400" spc="-1" strike="noStrike">
              <a:solidFill>
                <a:srgbClr val="e3e3ff"/>
              </a:solidFill>
              <a:latin typeface="Arial"/>
            </a:endParaRPr>
          </a:p>
        </p:txBody>
      </p:sp>
      <p:sp>
        <p:nvSpPr>
          <p:cNvPr id="138" name="PlaceHolder 2"/>
          <p:cNvSpPr>
            <a:spLocks noGrp="1"/>
          </p:cNvSpPr>
          <p:nvPr>
            <p:ph/>
          </p:nvPr>
        </p:nvSpPr>
        <p:spPr>
          <a:xfrm>
            <a:off x="609480" y="762120"/>
            <a:ext cx="8229600" cy="53337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n a ship rolls in a seaway, it results in forces in the structure tending to distort it transversely and may cause deformation at the corners. The deck tends to move laterally relative to the bottom structure, and the shell on one side to move vertically relative to the other side. This type of deformation is referred to as “racking”.</a:t>
            </a:r>
            <a:endParaRPr b="0" lang="en-US" sz="1800" spc="-1" strike="noStrike">
              <a:solidFill>
                <a:srgbClr val="ffffff"/>
              </a:solidFill>
              <a:latin typeface="Arial"/>
            </a:endParaRPr>
          </a:p>
        </p:txBody>
      </p:sp>
      <p:pic>
        <p:nvPicPr>
          <p:cNvPr id="139" name="" descr=""/>
          <p:cNvPicPr/>
          <p:nvPr/>
        </p:nvPicPr>
        <p:blipFill>
          <a:blip r:embed="rId1"/>
          <a:stretch/>
        </p:blipFill>
        <p:spPr>
          <a:xfrm>
            <a:off x="1219320" y="2286000"/>
            <a:ext cx="624816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8380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Arial"/>
              </a:rPr>
              <a:t>TORSION</a:t>
            </a:r>
            <a:endParaRPr b="0" lang="en-US" sz="4400" spc="-1" strike="noStrike">
              <a:solidFill>
                <a:srgbClr val="e3e3ff"/>
              </a:solidFill>
              <a:latin typeface="Arial"/>
            </a:endParaRPr>
          </a:p>
        </p:txBody>
      </p:sp>
      <p:sp>
        <p:nvSpPr>
          <p:cNvPr id="141" name="PlaceHolder 2"/>
          <p:cNvSpPr>
            <a:spLocks noGrp="1"/>
          </p:cNvSpPr>
          <p:nvPr>
            <p:ph/>
          </p:nvPr>
        </p:nvSpPr>
        <p:spPr>
          <a:xfrm>
            <a:off x="457200" y="2362320"/>
            <a:ext cx="8229600" cy="2286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n any body is subjected to a twisting moment, which is commonly referred to as torque, that body is said to be in ‘torsion’. A ship heading obliquely to a wave will be subjected to righting moments of opposite direction at its ends twisting the hull and putting it in ‘torsion’. In most ships, torsional moments and stresses are negligible but in ships with extremely wide and long deck openings they are significa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1T13:35:46Z</dcterms:created>
  <dc:creator>Vishwas Tomar</dc:creator>
  <dc:description/>
  <dc:language>en-US</dc:language>
  <cp:lastModifiedBy>Vishwas Tomar</cp:lastModifiedBy>
  <dcterms:modified xsi:type="dcterms:W3CDTF">2005-08-14T08:16:45Z</dcterms:modified>
  <cp:revision>9</cp:revision>
  <dc:subject/>
  <dc:title>SHIP LOADS AND STRESSES </dc:title>
</cp:coreProperties>
</file>