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BE4-431E-469F-8C35-E3967EDD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73F-0B40-4B1F-8734-9681541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48E-C286-4635-AAC2-5C0FDAC6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9EB-C325-4CD1-A27D-E4112F77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AB9-D8CD-4864-9373-B73E34C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2FD-9C09-4D20-9B7C-D2E26A5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5C4-1B92-46EF-9B5F-BB963AB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186-8CE4-4E46-B0A1-EC4B3DC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26B-6F68-4FB6-9711-B855837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B03-AEFF-46CB-A9EA-A718674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3B7-450F-4853-97F1-D2F3ECB3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4B4-0D74-4C10-81A0-454FA37D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B4E3-CE68-4EB1-A7FD-FC0A53D8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SHIP LOAD DIA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A ship may be regarded a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Non-uniform b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arrying non-uniformly distribute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Having varying degrees of support along its lengt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The load curves are best accurate when the ship is in still water and no dynamic forces are acting on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81760" y="108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7650000" cy="19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7696080" cy="282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715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Maximum bending moment occurs when the shear force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Lucida Sans Unicode"/>
              </a:rPr>
              <a:t>STILL WATER B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Consider a loaded ship lying in still wat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The up-thrust at any one metre length of the ship depends upon the immersed cross-sectional area of the ship at that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If the values of up-thrust at different positions along the length of the ship are plotted on a base representing the ship’s length, a </a:t>
            </a:r>
            <a:r>
              <a:rPr b="1" i="1" lang="en-US" sz="3200" spc="-1" strike="noStrike" u="sng">
                <a:solidFill>
                  <a:srgbClr val="99ff33"/>
                </a:solidFill>
                <a:uFillTx/>
                <a:latin typeface="Lucida Sans Unicode"/>
              </a:rPr>
              <a:t>BOUYANCY CURVE</a:t>
            </a: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BUOYANC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curve increases from zero at each end to a maximum value in way of the parallel mid-ship 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alphaModFix amt="4000"/>
          </a:blip>
          <a:stretch/>
        </p:blipFill>
        <p:spPr>
          <a:xfrm>
            <a:off x="914400" y="2286000"/>
            <a:ext cx="716292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5257800"/>
            <a:ext cx="94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rea of this curve represents the total up-thrust exerted by the water on the sh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e total weight of the ship consists mainly of the steel structure, items of machinery and car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But, the actual weight at various points along the length of the ship is unevenly distribu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is is represented by the  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Lucida Sans Unicode"/>
              </a:rPr>
              <a:t>WEIGHT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Lucida Sans Unicode"/>
              </a:rPr>
              <a:t>The weight curve starts and finishes at the extremes of the ship’s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1629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buoyancy or the weight along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ngth of the ship need not be uni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various points along the ship’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length there may be an excess of buoyancy or an excess of we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Hence: Difference (weight-buoyancy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ff33"/>
                </a:solidFill>
                <a:latin typeface="Arial"/>
              </a:rPr>
              <a:t>                       </a:t>
            </a: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= resultant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The total weight must be equal to the total buoyancy resulting in the ship floating at a particular dra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Hence :  Area of the load diagram above the base line </a:t>
            </a:r>
            <a:r>
              <a:rPr b="1" i="1" lang="en-US" sz="3600" spc="-1" strike="noStrike">
                <a:solidFill>
                  <a:srgbClr val="66ff33"/>
                </a:solidFill>
                <a:latin typeface="Lucida Sans Unicode"/>
              </a:rPr>
              <a:t>=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 Area below the base line.</a:t>
            </a:r>
            <a:r>
              <a:rPr b="0" lang="en-US" sz="2800" spc="-1" strike="noStrike">
                <a:solidFill>
                  <a:srgbClr val="66ff33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8888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Lucida Sans Unicode"/>
              </a:rPr>
              <a:t>SHEAR FORCE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Due to the unequal loading of the ship vertical shear forces are set up on th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238880" cy="26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5562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It is in effect the area of the load diagram to the point considered</a:t>
            </a:r>
            <a:r>
              <a:rPr b="1" i="1" lang="en-US" sz="1800" spc="-1" strike="noStrike" u="sng">
                <a:solidFill>
                  <a:srgbClr val="66ff33"/>
                </a:solidFill>
                <a:uFillTx/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loading of the ship’s structure will also tend to be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bending moment at any point is the sum of the various moments to one side or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At any section the moment is represented by the area of the shear force diagram to the point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1:54:37Z</dcterms:created>
  <dc:creator>Neiloy</dc:creator>
  <dc:description/>
  <dc:language>en-US</dc:language>
  <cp:lastModifiedBy>Neiloy</cp:lastModifiedBy>
  <dcterms:modified xsi:type="dcterms:W3CDTF">2005-08-17T17:27:28Z</dcterms:modified>
  <cp:revision>6</cp:revision>
  <dc:subject/>
  <dc:title>LOAD CURVES </dc:title>
</cp:coreProperties>
</file>