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1554-6E05-44CE-BC2F-D317D905B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9DE04-8683-42A4-9A63-F66EE3EE3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4747A-D4B4-40B2-8264-BA6638048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B1310-C9DE-45AA-9674-3566D759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AD258-39A7-4B63-A6BE-FF754618E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D73E7-3F66-4B31-90E3-13988535A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2A56-0283-41FB-85E7-D26B0DCBB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F87E8-229B-4903-8628-4361FF20F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47BD4-FDBC-421E-BAC5-4A920D7BA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D5EC0-DEE4-44AA-8A3F-0A1610ECB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EC2A7-34B3-4AA9-A3C7-28BD6E631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979F-3693-4443-B782-207BBBBD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B9C88-A379-4519-8760-983E66FC7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5D1B4-C801-411F-B611-87608E90B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0BF6B-A640-49D8-A26F-EB0C5E0FA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ECB7E-BC41-4A6F-AC42-C8829F51C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8B072-F01D-4A69-BA4E-DEBBC451E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9D64-4712-4609-8957-F0A4A3AD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241F4-F14E-4022-A099-90F2ED79D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9E521-B974-40CE-A01B-9207C021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6B41-FBDB-4723-A7A2-7F87664A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5711-F2EE-4E3E-8F92-D5441A3C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7620-C726-42CE-BE00-2F273E8AD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2B05-AB36-44B4-BB17-D420507EB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C668-C8D9-4EBC-B182-76DAE29FA61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C748-0745-4ED1-B349-DD1FDFC2175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FT END ARRANGEMENT</a:t>
            </a:r>
            <a:endParaRPr b="0" lang="en-US" sz="5400" spc="-1" strike="noStrike">
              <a:solidFill>
                <a:srgbClr val="ccecff"/>
              </a:solidFill>
              <a:latin typeface="Arial"/>
            </a:endParaRPr>
          </a:p>
        </p:txBody>
      </p:sp>
      <p:sp>
        <p:nvSpPr>
          <p:cNvPr id="157" name="PlaceHolder 2"/>
          <p:cNvSpPr>
            <a:spLocks noGrp="1"/>
          </p:cNvSpPr>
          <p:nvPr>
            <p:ph type="subTitle"/>
          </p:nvPr>
        </p:nvSpPr>
        <p:spPr>
          <a:xfrm>
            <a:off x="1523880" y="4038120"/>
            <a:ext cx="6400800" cy="175284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oup 1</a:t>
            </a:r>
            <a:endParaRPr b="0" lang="en-US" sz="3200" spc="-1" strike="noStrike">
              <a:solidFill>
                <a:srgbClr val="ffffff"/>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peak is the after-most part of the hull structure. It is normally used for the storage of fresh water or ballast and it provides a degree of protection to all spaces forward of the aft peak bulkhead.</a:t>
            </a:r>
            <a:endParaRPr b="0" lang="en-US" sz="32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T</a:t>
            </a:r>
            <a:endParaRPr b="0" lang="en-US" sz="4400" spc="-1" strike="noStrike">
              <a:solidFill>
                <a:srgbClr val="ccecff"/>
              </a:solidFill>
              <a:latin typeface="Arial"/>
            </a:endParaRPr>
          </a:p>
        </p:txBody>
      </p:sp>
      <p:pic>
        <p:nvPicPr>
          <p:cNvPr id="183" name="" descr=""/>
          <p:cNvPicPr/>
          <p:nvPr/>
        </p:nvPicPr>
        <p:blipFill>
          <a:blip r:embed="rId1"/>
          <a:stretch/>
        </p:blipFill>
        <p:spPr>
          <a:xfrm>
            <a:off x="-533520" y="1371600"/>
            <a:ext cx="10211040" cy="58672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 Construc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ollowing members are normally found in the aft peak tank construction:</a:t>
            </a:r>
            <a:endParaRPr b="0" lang="en-US" sz="32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83808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shell plating at the aft end is terminated by the stern frame. This is usually a casting, but fabrications and forgings are some times used. The shape of the stern frame depends on the design of the stern, the propeller and the rudder arrangement.  In single screw ships, the stern frame has a boss on the centreline for the tailshaft to pass thru.</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dequate aperture is provided for the propeller to operate in . The lower part of the stern frame may provide a support for the rudder post or an overhang section may provide gudgeons for the rudder pintles. Twin screw ships have a stern frame which is only required to support the rudder pintles and is thus much reduced in size.</a:t>
            </a:r>
            <a:endParaRPr b="0" lang="en-US" sz="32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Solid Floor</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located at every frame space for a stern with a transverse framing system.</a:t>
            </a:r>
            <a:endParaRPr b="0" lang="en-US" sz="32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Centerline Longitudinal Wash Bulkhead.</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normally fitted to reduce the free surface effects. It is stiffened by vertical stiffeners and girders as necessary. </a:t>
            </a:r>
            <a:endParaRPr b="0" lang="en-US" sz="32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4. Rudder Trunk</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 section which is found in the stern for the entry of the rudder stock into the steering gear room. The lower part of rudder trunk is open to the sea, but usually provided with an inspection manhole for viewing. The trunking above this is then constructed to be watertight, penetrated only by the rudder stock. </a:t>
            </a:r>
            <a:endParaRPr b="0" lang="en-US" sz="32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Stern Tube</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housed in the APT. it houses the propeller shaft and bearings. The tail shaft within the stern tube is either oil or water lubricated. </a:t>
            </a:r>
            <a:endParaRPr b="0" lang="en-US" sz="32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Tube</a:t>
            </a:r>
            <a:endParaRPr b="0" lang="en-US" sz="4400" spc="-1" strike="noStrike">
              <a:solidFill>
                <a:srgbClr val="ccecff"/>
              </a:solidFill>
              <a:latin typeface="Arial"/>
            </a:endParaRPr>
          </a:p>
        </p:txBody>
      </p:sp>
      <p:pic>
        <p:nvPicPr>
          <p:cNvPr id="199" name="" descr=""/>
          <p:cNvPicPr/>
          <p:nvPr/>
        </p:nvPicPr>
        <p:blipFill>
          <a:blip r:embed="rId1"/>
          <a:stretch/>
        </p:blipFill>
        <p:spPr>
          <a:xfrm>
            <a:off x="533520" y="990720"/>
            <a:ext cx="8076960" cy="58672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S</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derstand the design of the aft end structure with respect to local loads and stresses.</a:t>
            </a:r>
            <a:endParaRPr b="0" lang="en-US" sz="3200" spc="-1" strike="noStrike">
              <a:solidFill>
                <a:srgbClr val="ffffff"/>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n underwater appendage the surface of which is used to generate sufficient force to steer the ship when it is in motion. A single rudder is fitted in ships with single tail shaft or single propeller. Twin rudders are fitted on ships with twin screw or twin propeller arrangements. </a:t>
            </a:r>
            <a:endParaRPr b="0" lang="en-US" sz="32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pic>
        <p:nvPicPr>
          <p:cNvPr id="203" name="" descr=""/>
          <p:cNvPicPr/>
          <p:nvPr/>
        </p:nvPicPr>
        <p:blipFill>
          <a:blip r:embed="rId1"/>
          <a:stretch/>
        </p:blipFill>
        <p:spPr>
          <a:xfrm>
            <a:off x="838080" y="1295280"/>
            <a:ext cx="7543800" cy="5181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a typical rudder for merchant ship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rmally made from standard streamlined profil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ypical rudder will be constructed of plates stiffened by horizontal and vertical web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upling palm is normally provided at the top of the rudder for attachment to the rudder stock.</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fting eyes are provided for lifting and dismantling of the rudder.</a:t>
            </a:r>
            <a:endParaRPr b="0" lang="en-US" sz="2800" spc="-1" strike="noStrike">
              <a:solidFill>
                <a:srgbClr val="ffffff"/>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Drain plugs are provided at the top and bottom for drainage, coating and testing purpos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A closing plate is fitted on one side of the rudder. This closing plate is the last piece of plate to be fitted after carrying out internal weldings of the rudder.</a:t>
            </a:r>
            <a:endParaRPr b="0" lang="en-US" sz="32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9" name="" descr=""/>
          <p:cNvPicPr/>
          <p:nvPr/>
        </p:nvPicPr>
        <p:blipFill>
          <a:blip r:embed="rId1"/>
          <a:stretch/>
        </p:blipFill>
        <p:spPr>
          <a:xfrm>
            <a:off x="457200" y="304920"/>
            <a:ext cx="8229600" cy="6324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end of the ship refers to the stern of the ship within 0.25 length from the aft perpendicular. The aft end includes the main hull and superstructure including the poop. </a:t>
            </a:r>
            <a:endParaRPr b="0" lang="en-US" sz="32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grpSp>
        <p:nvGrpSpPr>
          <p:cNvPr id="163" name=""/>
          <p:cNvGrpSpPr/>
          <p:nvPr/>
        </p:nvGrpSpPr>
        <p:grpSpPr>
          <a:xfrm>
            <a:off x="380880" y="533520"/>
            <a:ext cx="8228520" cy="5865480"/>
            <a:chOff x="380880" y="533520"/>
            <a:chExt cx="8228520" cy="5865480"/>
          </a:xfrm>
        </p:grpSpPr>
        <p:cxnSp>
          <p:nvCxnSpPr>
            <p:cNvPr id="164" name="_s14350"/>
            <p:cNvCxnSpPr>
              <a:stCxn id="165" idx="0"/>
              <a:endCxn id="166" idx="2"/>
            </p:cNvCxnSpPr>
            <p:nvPr/>
          </p:nvCxnSpPr>
          <p:spPr>
            <a:xfrm flipV="1" rot="16200000">
              <a:off x="5016240" y="2358000"/>
              <a:ext cx="1173600" cy="2215440"/>
            </a:xfrm>
            <a:prstGeom prst="bentConnector3">
              <a:avLst>
                <a:gd name="adj1" fmla="val 12703"/>
              </a:avLst>
            </a:prstGeom>
            <a:ln w="28440">
              <a:solidFill>
                <a:srgbClr val="ffffff"/>
              </a:solidFill>
              <a:miter/>
            </a:ln>
          </p:spPr>
        </p:cxnSp>
        <p:cxnSp>
          <p:nvCxnSpPr>
            <p:cNvPr id="167" name="_s14348"/>
            <p:cNvCxnSpPr>
              <a:stCxn id="168" idx="0"/>
              <a:endCxn id="166" idx="2"/>
            </p:cNvCxnSpPr>
            <p:nvPr/>
          </p:nvCxnSpPr>
          <p:spPr>
            <a:xfrm flipH="1" flipV="1" rot="5400000">
              <a:off x="2800080" y="2358000"/>
              <a:ext cx="1173600" cy="2216160"/>
            </a:xfrm>
            <a:prstGeom prst="bentConnector3">
              <a:avLst>
                <a:gd name="adj1" fmla="val 12703"/>
              </a:avLst>
            </a:prstGeom>
            <a:ln w="28440">
              <a:solidFill>
                <a:srgbClr val="ffffff"/>
              </a:solidFill>
              <a:miter/>
            </a:ln>
          </p:spPr>
        </p:cxnSp>
        <p:sp>
          <p:nvSpPr>
            <p:cNvPr id="166" name="_s14344"/>
            <p:cNvSpPr/>
            <p:nvPr/>
          </p:nvSpPr>
          <p:spPr>
            <a:xfrm>
              <a:off x="2596680" y="53352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tern Construction</a:t>
              </a:r>
              <a:endParaRPr b="0" lang="en-US" sz="3300" spc="-1" strike="noStrike">
                <a:solidFill>
                  <a:srgbClr val="ffffff"/>
                </a:solidFill>
                <a:latin typeface="Arial"/>
              </a:endParaRPr>
            </a:p>
          </p:txBody>
        </p:sp>
        <p:sp>
          <p:nvSpPr>
            <p:cNvPr id="168" name="_s14345"/>
            <p:cNvSpPr/>
            <p:nvPr/>
          </p:nvSpPr>
          <p:spPr>
            <a:xfrm>
              <a:off x="38088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ruiser Stern</a:t>
              </a:r>
              <a:endParaRPr b="0" lang="en-US" sz="3300" spc="-1" strike="noStrike">
                <a:solidFill>
                  <a:srgbClr val="ffffff"/>
                </a:solidFill>
                <a:latin typeface="Arial"/>
              </a:endParaRPr>
            </a:p>
          </p:txBody>
        </p:sp>
        <p:sp>
          <p:nvSpPr>
            <p:cNvPr id="165" name="_s14347"/>
            <p:cNvSpPr/>
            <p:nvPr/>
          </p:nvSpPr>
          <p:spPr>
            <a:xfrm>
              <a:off x="481176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ransom Stern</a:t>
              </a:r>
              <a:endParaRPr b="0" lang="en-US" sz="33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Aft Arrangement</a:t>
            </a:r>
            <a:br>
              <a:rPr sz="4000"/>
            </a:br>
            <a:endParaRPr b="0" lang="en-US" sz="4000" spc="-1" strike="noStrike">
              <a:solidFill>
                <a:srgbClr val="ccecff"/>
              </a:solidFill>
              <a:latin typeface="Arial"/>
            </a:endParaRPr>
          </a:p>
        </p:txBody>
      </p:sp>
      <p:pic>
        <p:nvPicPr>
          <p:cNvPr id="170" name="" descr=""/>
          <p:cNvPicPr/>
          <p:nvPr/>
        </p:nvPicPr>
        <p:blipFill>
          <a:blip r:embed="rId1"/>
          <a:stretch/>
        </p:blipFill>
        <p:spPr>
          <a:xfrm>
            <a:off x="609480" y="990720"/>
            <a:ext cx="8077320" cy="56386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resents a pleasant profile and reduces resistance probably because of the increase in waterline length but at a penalty of a longer overhang. It is likely to be subject to a greater slamming force than the transom stern.</a:t>
            </a:r>
            <a:endParaRPr b="0" lang="en-US" sz="3200" spc="-1" strike="noStrike">
              <a:solidFill>
                <a:srgbClr val="ffffff"/>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sociated with cruiser stern are cant frames. Cant frames are frames constructed at an angle to the centre line of the ship so that the entire area of the stern plating can be stiffened at regular intervals. Where the span of the frame is long, horizontal stringers are fitted.</a:t>
            </a:r>
            <a:endParaRPr b="0" lang="en-US" sz="3200" spc="-1" strike="noStrike">
              <a:solidFill>
                <a:srgbClr val="ffffff"/>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provides for easier construction. Transom stern also provides for a greater deck area. Most merchant ships are fitted with transom stern because it is easier to fabricate.</a:t>
            </a:r>
            <a:endParaRPr b="0" lang="en-US" sz="2800" spc="-1" strike="noStrike">
              <a:solidFill>
                <a:srgbClr val="ffffff"/>
              </a:solidFill>
              <a:latin typeface="Verdana"/>
            </a:endParaRPr>
          </a:p>
        </p:txBody>
      </p:sp>
      <p:pic>
        <p:nvPicPr>
          <p:cNvPr id="177" name="" descr=""/>
          <p:cNvPicPr/>
          <p:nvPr/>
        </p:nvPicPr>
        <p:blipFill>
          <a:blip r:embed="rId1"/>
          <a:stretch/>
        </p:blipFill>
        <p:spPr>
          <a:xfrm>
            <a:off x="4836960" y="1600200"/>
            <a:ext cx="3660840" cy="45306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pic>
        <p:nvPicPr>
          <p:cNvPr id="179" name="" descr=""/>
          <p:cNvPicPr/>
          <p:nvPr/>
        </p:nvPicPr>
        <p:blipFill>
          <a:blip r:embed="rId1"/>
          <a:stretch/>
        </p:blipFill>
        <p:spPr>
          <a:xfrm>
            <a:off x="380880" y="1066680"/>
            <a:ext cx="8458200" cy="5791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6:06:22Z</dcterms:created>
  <dc:creator>Nihar</dc:creator>
  <dc:description/>
  <dc:language>en-US</dc:language>
  <cp:lastModifiedBy>s20957</cp:lastModifiedBy>
  <dcterms:modified xsi:type="dcterms:W3CDTF">2005-09-07T09:15:10Z</dcterms:modified>
  <cp:revision>2</cp:revision>
  <dc:subject/>
  <dc:title>AFT END ARRANGEMENT</dc:title>
</cp:coreProperties>
</file>