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89096-6740-4589-B1BF-6CEBBD80A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5571-22A3-438D-A8D2-47B672283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F1F7A-93B4-4EDB-85DA-1653D4F03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E3F92-FE95-4B18-BD84-BDC3B0A42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95E8F-D775-43C0-B9E9-96F2137C9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447EC-7EEA-410E-94AF-B62988F7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5290C-F5F9-41E7-BCD8-ADBA97229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5642C-1128-4CDE-9BAE-1BDF44A5E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11A92-EB91-4CB4-843F-B8870304C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7B9BC-1FB0-4EA8-BA4D-4E08B32D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F218C-9B67-4547-8700-BD099165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275D-7D8A-4092-AD90-C23DE9AF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CB831-1567-417E-8B7A-828ABD143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A811E-9C43-47EB-84A0-B829F6319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1F2D2-2B4E-4A5E-9543-3390896ED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7E34B-BB4D-49E5-A073-640A63C08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5D4CF-2BC8-4709-807D-EC8CEE228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E4C7-972C-4EC7-B8E3-163FF92B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2162-7D2F-4ABE-9F63-C12AA8A7A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A2F1-E159-430E-8E49-11208381D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55C52-9843-46E1-97BD-94DCCA18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2D1FC-22F2-4DF2-A42B-338302CB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0D36-8EE8-420A-ABD5-734078EA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6CFD-BACF-47E1-BCD3-920289705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7E57-D30B-48A6-8748-EF8280E3F8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35D0-A129-4ADC-9AA8-1535B3FFBB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ull Framing Systems</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8640"/>
            <a:ext cx="6400800" cy="21337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e b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hwas Tom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har Herwadk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 Arif Khan</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Krishnanandh</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ongitudinal syst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itudinal system has superior structural efficienc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system support shell plating against local loading caused by water pressure and cargo loads (which transverse frames also 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to ship’s resistance of longitudinal bending (which transverse frames do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Advantages of longitudinal framing system over the transverse framing system:</a:t>
            </a:r>
            <a:endParaRPr b="0" lang="en-US" sz="2000" spc="-1" strike="noStrike">
              <a:solidFill>
                <a:srgbClr val="8c0039"/>
              </a:solidFill>
              <a:latin typeface="Arial"/>
            </a:endParaRPr>
          </a:p>
        </p:txBody>
      </p:sp>
      <p:sp>
        <p:nvSpPr>
          <p:cNvPr id="105" name="PlaceHolder 2"/>
          <p:cNvSpPr>
            <a:spLocks noGrp="1"/>
          </p:cNvSpPr>
          <p:nvPr>
            <p:ph/>
          </p:nvPr>
        </p:nvSpPr>
        <p:spPr>
          <a:xfrm>
            <a:off x="2438280" y="1903320"/>
            <a:ext cx="6400800" cy="4192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istant to buckling between longitudinal stiffeners when deck or bottom is subjected to compressive stres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hydrostatic pressure on a longitudinal and associated plating increase with depth below the waterline or below the surface of liquid in the tank, each longitudinal can be sized to withstand the maximum pressure associated with its depth. Thus achieving an efficient use of structural materi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Disadvantages of longitudinal framing system over transverse framing system:</a:t>
            </a:r>
            <a:endParaRPr b="0" lang="en-US" sz="20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ep webs intrude into prime cargo spaces for ships carrying packaged car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ull narrows towards the bow and stem, the longitudinals become closer together. Thus some of them have to be eliminated when they converge too closely. This results in difficulties in construc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1447920"/>
            <a:ext cx="670572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mpare the advantages and disadvantages of longitudinal and transverse  framing system.</a:t>
            </a:r>
            <a:endParaRPr b="0" lang="en-US" sz="3600" spc="-1" strike="noStrike">
              <a:solidFill>
                <a:srgbClr val="8c003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What is framing?</a:t>
            </a: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hell of a ship consists of bottom, side and deck plating. These are stiffened (supported) internally to prevent it from collapsing. This supporting arrangement is called fram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ming consists of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Primary supporting members, an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econdary supporting member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properties of secondary supporting members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smaller in size as compared to primary supporting memb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d sections of bulb plates or unequal angles are 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ed usually at spacing of less than 1000 mm apar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e we will be compa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ransverse framing system</a:t>
            </a:r>
            <a:r>
              <a:rPr b="0" i="1"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longitudinal framing syste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falls under the category of </a:t>
            </a:r>
            <a:r>
              <a:rPr b="0" i="1" lang="en-US" sz="2400" spc="-1" strike="noStrike">
                <a:solidFill>
                  <a:srgbClr val="000000"/>
                </a:solidFill>
                <a:latin typeface="Arial"/>
              </a:rPr>
              <a:t>secondary supporting member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Transverse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rames are fitted transverse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member named as open floor, side member as hold frame and deck member as deck beam respectivel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longitudinal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econdary supporting members are fitted in longitudinal di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known as longitudinals (bottom, side and deck respectively)</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361960" y="27428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Comparisons between the two systems:</a:t>
            </a:r>
            <a:endParaRPr b="0" lang="en-US" sz="3200" spc="-1" strike="noStrike">
              <a:solidFill>
                <a:srgbClr val="8c003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ransverse system</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verse framing were structurally sound and satisfactory in servic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ost of the transverse stiffeners contribute nothing to ship’s resistance of longitudinal bending.</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t was not optimal for structural efficiency i.e. achieving required strength for least weigh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7:20:00Z</dcterms:created>
  <dc:creator>Vishwas Tomar</dc:creator>
  <dc:description/>
  <dc:language>en-US</dc:language>
  <cp:lastModifiedBy>s20957</cp:lastModifiedBy>
  <dcterms:modified xsi:type="dcterms:W3CDTF">2005-09-06T02:26:31Z</dcterms:modified>
  <cp:revision>3</cp:revision>
  <dc:subject/>
  <dc:title>Hull Framing Systems</dc:title>
</cp:coreProperties>
</file>