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53E-B2E8-42C2-83CB-9FE6DAF9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191-92AF-4F00-982D-D2677B4E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F8A-8799-47F3-8824-F7C7151D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7C1-E722-4E05-BA9D-24A13572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1DA2-956E-41C4-A6A3-8958EE00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4072-294F-46E5-AF69-D45B6DF6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82DE-A3A9-4F96-920B-7911AB15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3A7B-BF85-4DA2-AF41-8A97B33C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2136-256D-4254-9E99-C3AD41F6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A168-234C-4CF9-B4CE-AE73BB30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5098-3E58-41BB-A59F-31EC3736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56A-9F6C-45EB-85E2-7CB14B9F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2ABD-C3FA-43D2-8D1D-E08FA011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C825-F49C-4E8A-9542-2C10E747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7823-55D4-4F2B-80B4-0BE0074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9A08-9408-4102-A280-9F652D37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4FA3-46D4-496F-AEF2-3D5C6FEB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3CA-ECDC-47EA-88D0-E848DCAE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3B9-4364-463E-8432-F3DFFF03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529-347E-4780-8F3F-9C128D81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096-D393-4E47-99D2-6DBBCDD5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5B0-6F2B-4B65-AE55-82557549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929-87D7-4C08-9020-2607AE52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D99-DE46-46F2-AA25-561BBA7F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A57A-1E33-4E56-98C6-1DCFBE902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3566-75E5-472F-91C7-4D60A1332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eb.nps.navy.mil/~me/tsse/NavArchWeb/lectures.htm" TargetMode="External"/><Relationship Id="rId2" Type="http://schemas.openxmlformats.org/officeDocument/2006/relationships/hyperlink" Target="http://web.nps.navy.mil/~me/tsse/NavArchWeb/lectures.htm" TargetMode="External"/><Relationship Id="rId3" Type="http://schemas.openxmlformats.org/officeDocument/2006/relationships/hyperlink" Target="http://web.nps.navy.mil/~me/tsse/NavArchWeb/lectures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ULL FRAMING SYSTEM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S(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POSITELY FRAMED OIL TANK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0" r="0" b="7119"/>
          <a:stretch/>
        </p:blipFill>
        <p:spPr>
          <a:xfrm>
            <a:off x="1981080" y="1463760"/>
            <a:ext cx="52578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ip Powering and Construction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val Architecture Lectures on th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eb.nps.navy.mil/~me/tsse/NavArchWeb/lectures.htm</a:t>
            </a: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4008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and compare transverse and longitudinal framing systems and explain the need for combination framing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AMING SYSTE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hree possible ways to fit the secondary supporting me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971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verse Fram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itudinal Fram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d or Mixed Fram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ANSVERSE FRAMING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old frames are fitted transvers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itudinal deck girders support the transverse deck b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itudinal strength in a transversely framed ship is provided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entre girder, the shell plating and inner bottom pl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the deck plating outboard of hatch and machinery casing ope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a number of large, widely spaced longitudinal members e.g. longitudinal deck gi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952880" y="1495440"/>
            <a:ext cx="3429000" cy="2084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86280" y="3705120"/>
            <a:ext cx="36576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ANSVERSE FRAMED OIL TANK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49061" r="0" b="0"/>
          <a:stretch/>
        </p:blipFill>
        <p:spPr>
          <a:xfrm>
            <a:off x="1600200" y="1828800"/>
            <a:ext cx="6099120" cy="4129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49061" r="0" b="0"/>
          <a:stretch/>
        </p:blipFill>
        <p:spPr>
          <a:xfrm>
            <a:off x="838080" y="1447920"/>
            <a:ext cx="7616880" cy="51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NGITUDINAL FRAMING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 secondary supporting members are fitted the longitudinal direction and are known as longitudi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system consists of many small, closely spaced longitudinals supporting the plating directly and being supported in turn by a few largely spaced longitudi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 is in tankers that this system in its purest form is emplo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also contribute to the longitudinal strength of the ship, making the longitudinal framing system more structurally efficient than the transvers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711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25909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NGITUDINALLY FRAMED OIL TANK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54701"/>
          <a:stretch/>
        </p:blipFill>
        <p:spPr>
          <a:xfrm>
            <a:off x="609480" y="1447920"/>
            <a:ext cx="807408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3400" indent="-2034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contribution to the ship’s resistance to longitudinal be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-2034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optimal from the standpoint of structural efficiency, i.e. achieving the required strength for the least we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resistant to buckling between longitudinal stiffeners when subjected to compressive stresses while bending in seaw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ior structural efficiency because most of the plating stiffeners are in the fore and aft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11480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trusion of deep webs into prime cargo spaces for ships carrying packaged cargo is a disadvantage of longitudinal framing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e hull narrows toward bow and stem, the girth necessary redu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iculties in construction arise when the longitudinal frames converge so clos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is reason, transverse framing is usually resorted to at the bow and stem of longitudinally framed shi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0" r="0" b="15566"/>
          <a:stretch/>
        </p:blipFill>
        <p:spPr>
          <a:xfrm>
            <a:off x="4676760" y="2286000"/>
            <a:ext cx="4419720" cy="29178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BINED FRAMING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mbination of both transverse and longitudinal framing is adopted in the same cross section of the shi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itudinal framing is used in the bottom and dec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has the advantage of extra longitudinal strength and resistance to compressive plate buck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verse framing is used in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ecludes the need for deep webs that might inhibit efficient cargo stow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6:07:43Z</dcterms:created>
  <dc:creator>CISD</dc:creator>
  <dc:description/>
  <dc:language>en-US</dc:language>
  <cp:lastModifiedBy>CISD</cp:lastModifiedBy>
  <dcterms:modified xsi:type="dcterms:W3CDTF">2005-08-25T07:36:55Z</dcterms:modified>
  <cp:revision>18</cp:revision>
  <dc:subject/>
  <dc:title>HULL FRAMING SYSTEMS</dc:title>
</cp:coreProperties>
</file>