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440E-5F57-4021-880F-329412E56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6108-BA27-4058-80FD-1A11DF04A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6926-C369-4EA7-9759-E19884DD3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6189-53FE-4E02-8981-036ABF9DF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E7BB8-13BB-425E-9DE7-BB86FD7FD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91EBB-D653-4DF1-9B7F-0197DD6BD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80E00-20FE-4781-BE8F-4C7484245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4D6AF-2630-468D-920A-31619F81F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22BA6-8EED-423D-9B4D-A69FE2111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97A0F-050C-4F36-8787-D2E480B47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49A41-5AED-4F4C-8ECA-FB7AF1D1B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D13D-DC69-4EE0-8DBE-71F80A3F8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B82E0-AAB0-4103-BAB8-EA25BB290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5ED00-09D4-41AE-948F-C89F330B3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A701B-A076-4B37-9C93-34CAE222D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41ED4-A5B0-418D-B9C1-A31756610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49569-FDFB-4ED8-9104-9C7AD890A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6A93-7B9A-4044-91EF-5820B99FA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219E-BBFC-49F1-AF4F-D68F5B162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A759-E363-4836-8E9F-05F700B95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384C-82DD-4F5E-86CB-C00476A66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3468-AED5-4746-91F2-B932BDE04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00D8-B5E6-44B9-9EA3-D3273233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939C-AAFC-4256-9DE7-EA6C3E403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9BE0E-AF07-4CE7-8976-A13FE0F09D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B0AA3-4AAE-4922-A608-8E7D43EEB6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eb.nps.navy.mil/~me/tsse/NavArchWeb/lectures.htm" TargetMode="External"/><Relationship Id="rId2" Type="http://schemas.openxmlformats.org/officeDocument/2006/relationships/hyperlink" Target="http://web.nps.navy.mil/~me/tsse/NavArchWeb/lectures.htm" TargetMode="External"/><Relationship Id="rId3" Type="http://schemas.openxmlformats.org/officeDocument/2006/relationships/hyperlink" Target="http://web.nps.navy.mil/~me/tsse/NavArchWeb/lectures.htm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HULL FRAMING SYSTEM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UP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MS(D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OMPOSITELY FRAMED OIL TANKER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rcRect l="0" t="0" r="0" b="7119"/>
          <a:stretch/>
        </p:blipFill>
        <p:spPr>
          <a:xfrm>
            <a:off x="1981080" y="1463760"/>
            <a:ext cx="5257800" cy="524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hip Powering and Construction No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aval Architecture Lectures on the we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8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web.nps.navy.mil/~me/tsse/NavArchWeb/lectures.htm</a:t>
            </a:r>
            <a:r>
              <a:rPr b="0" lang="en-GB" sz="28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440080"/>
            <a:ext cx="822960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cribe and compare transverse and longitudinal framing systems and explain the need for combination framing syst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RAMING SYSTEM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three possible ways to fit the secondary supporting memb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297180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nsverse Framing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ngitudinal Framing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bined or Mixed Framing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RANSVERSE FRAMING SYSTEM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495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hold frames are fitted transvers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ngitudinal deck girders support the transverse deck be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ngitudinal strength in a transversely framed ship is provided b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centre girder, the shell plating and inner bottom pl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y the deck plating outboard of hatch and machinery casing openin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y a number of large, widely spaced longitudinal members e.g. longitudinal deck gir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4952880" y="1495440"/>
            <a:ext cx="3429000" cy="20844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4886280" y="3705120"/>
            <a:ext cx="3657600" cy="305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RANSVERSE FRAMED OIL TANKER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rcRect l="0" t="49061" r="0" b="0"/>
          <a:stretch/>
        </p:blipFill>
        <p:spPr>
          <a:xfrm>
            <a:off x="1600200" y="1828800"/>
            <a:ext cx="6099120" cy="41292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rcRect l="0" t="49061" r="0" b="0"/>
          <a:stretch/>
        </p:blipFill>
        <p:spPr>
          <a:xfrm>
            <a:off x="838080" y="1447920"/>
            <a:ext cx="7616880" cy="515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LONGITUDINAL FRAMING SYSTEM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572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ll secondary supporting members are fitted the longitudinal direction and are known as longitudina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system consists of many small, closely spaced longitudinals supporting the plating directly and being supported in turn by a few largely spaced longitudina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 is in tankers that this system in its purest form is employ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y also contribute to the longitudinal strength of the ship, making the longitudinal framing system more structurally efficient than the transverse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5410080" y="1600200"/>
            <a:ext cx="3276720" cy="27115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5715000" y="4495680"/>
            <a:ext cx="2590920" cy="172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LONGITUDINALLY FRAMED OIL TANKER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rcRect l="0" t="0" r="0" b="54701"/>
          <a:stretch/>
        </p:blipFill>
        <p:spPr>
          <a:xfrm>
            <a:off x="609480" y="1447920"/>
            <a:ext cx="8074080" cy="486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MPARIS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384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03400" indent="-20340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 contribution to the ship’s resistance to longitudinal bend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034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034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03400" indent="-20340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optimal from the standpoint of structural efficiency, i.e. achieving the required strength for the least weigh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034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48320" y="1523520"/>
            <a:ext cx="40384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re resistant to buckling between longitudinal stiffeners when subjected to compressive stresses while bending in seawa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erior structural efficiency because most of the plating stiffeners are in the fore and aft direc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57200" y="4114800"/>
            <a:ext cx="84582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221400" indent="-221400">
              <a:lnSpc>
                <a:spcPct val="12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intrusion of deep webs into prime cargo spaces for ships carrying packaged cargo is a disadvantage of longitudinal framing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1400" indent="-221400">
              <a:lnSpc>
                <a:spcPct val="12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 the hull narrows toward bow and stem, the girth necessary reduc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1400" indent="-221400">
              <a:lnSpc>
                <a:spcPct val="12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fficulties in construction arise when the longitudinal frames converge so close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1400" indent="-221400">
              <a:lnSpc>
                <a:spcPct val="12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this reason, transverse framing is usually resorted to at the bow and stem of longitudinally framed ship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rcRect l="0" t="0" r="0" b="15566"/>
          <a:stretch/>
        </p:blipFill>
        <p:spPr>
          <a:xfrm>
            <a:off x="4676760" y="2286000"/>
            <a:ext cx="4419720" cy="29178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OMBINED FRAMING SYSTEM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combination of both transverse and longitudinal framing is adopted in the same cross section of the shi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ngitudinal framing is used in the bottom and deck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has the advantage of extra longitudinal strength and resistance to compressive plate buckl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verse framing is used in the sid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precludes the need for deep webs that might inhibit efficient cargo stowa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5T06:07:43Z</dcterms:created>
  <dc:creator>CISD</dc:creator>
  <dc:description/>
  <dc:language>en-US</dc:language>
  <cp:lastModifiedBy>CISD</cp:lastModifiedBy>
  <dcterms:modified xsi:type="dcterms:W3CDTF">2005-08-25T07:36:55Z</dcterms:modified>
  <cp:revision>18</cp:revision>
  <dc:subject/>
  <dc:title>HULL FRAMING SYSTEMS</dc:title>
</cp:coreProperties>
</file>