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693-77E9-4325-B5CD-69519177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20C-C898-4670-BC97-DE2F3CD7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8D0-369A-4072-9E48-768A5B45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1E0-CAED-4748-87A6-275BF93C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4F94-7885-4023-BA3A-391AACDE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19A3-FAAC-45DE-9FD3-BBDB6835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00AB-0322-4515-8CA3-50DDFE1F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D6C0-27C7-4F60-BEC4-8B13D274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0861-ED38-40B9-B0DF-7E3B39E2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8400-775B-4CAC-A437-6B6A5512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0AB2-6D1E-448D-B7BA-35395C68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6A6-4A97-4AA5-94CE-89456CCA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70A4-6F93-4788-8C9D-4D674164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99A5-3F65-470B-AF90-F268AA06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509D-97C6-41ED-BECF-00F844DA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6B2D-69F9-47F7-9D9E-376BEC4C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322C-A900-4514-9532-825EF160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279-0B03-431A-B118-1C8750A6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E3D-3685-4936-BA01-060FEC0A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9BE-C78D-4404-9C48-12513D8F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B13-2B9D-40C4-97C7-409234F1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9E6-D535-4DF1-92DE-2A5C4FE1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F1D-2891-4BC1-8C3F-8A39DBD5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B816-672F-4979-B513-AC0E1577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11D5-E5DA-4A8A-9B99-E6ACF279C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EC01-3D95-454B-BC11-30FE46F88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eb.nps.navy.mil/~me/tsse/NavArchWeb/lectures.htm" TargetMode="External"/><Relationship Id="rId2" Type="http://schemas.openxmlformats.org/officeDocument/2006/relationships/hyperlink" Target="http://web.nps.navy.mil/~me/tsse/NavArchWeb/lectures.htm" TargetMode="External"/><Relationship Id="rId3" Type="http://schemas.openxmlformats.org/officeDocument/2006/relationships/hyperlink" Target="http://web.nps.navy.mil/~me/tsse/NavArchWeb/lectures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ULL FRAMING SYSTEM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MS(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POSITELY FRAMED OIL TANK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0" t="0" r="0" b="7119"/>
          <a:stretch/>
        </p:blipFill>
        <p:spPr>
          <a:xfrm>
            <a:off x="1981080" y="1463760"/>
            <a:ext cx="52578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ip Powering and Construction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val Architecture Lectures on the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eb.nps.navy.mil/~me/tsse/NavArchWeb/lectures.htm</a:t>
            </a:r>
            <a:r>
              <a:rPr b="0" lang="en-GB" sz="2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44008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and compare transverse and longitudinal framing systems and explain the need for combination framing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AMING SYSTE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hree possible ways to fit the secondary supporting me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9718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verse Framing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itudinal Framing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ed or Mixed Framing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ANSVERSE FRAMING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old frames are fitted transvers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itudinal deck girders support the transverse deck be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itudinal strength in a transversely framed ship is provided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entre girder, the shell plating and inner bottom pl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the deck plating outboard of hatch and machinery casing open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a number of large, widely spaced longitudinal members e.g. longitudinal deck gi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952880" y="1495440"/>
            <a:ext cx="3429000" cy="2084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86280" y="3705120"/>
            <a:ext cx="365760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ANSVERSE FRAMED OIL TANK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49061" r="0" b="0"/>
          <a:stretch/>
        </p:blipFill>
        <p:spPr>
          <a:xfrm>
            <a:off x="1600200" y="1828800"/>
            <a:ext cx="6099120" cy="4129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0" t="49061" r="0" b="0"/>
          <a:stretch/>
        </p:blipFill>
        <p:spPr>
          <a:xfrm>
            <a:off x="838080" y="1447920"/>
            <a:ext cx="7616880" cy="51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ONGITUDINAL FRAMING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 secondary supporting members are fitted the longitudinal direction and are known as longitudi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system consists of many small, closely spaced longitudinals supporting the plating directly and being supported in turn by a few largely spaced longitudi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 is in tankers that this system in its purest form is emplo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also contribute to the longitudinal strength of the ship, making the longitudinal framing system more structurally efficient than the transvers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2711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259092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ONGITUDINALLY FRAMED OIL TANK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0" r="0" b="54701"/>
          <a:stretch/>
        </p:blipFill>
        <p:spPr>
          <a:xfrm>
            <a:off x="609480" y="1447920"/>
            <a:ext cx="807408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3400" indent="-2034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contribution to the ship’s resistance to longitudinal be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3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3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3400" indent="-2034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optimal from the standpoint of structural efficiency, i.e. achieving the required strength for the least we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3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resistant to buckling between longitudinal stiffeners when subjected to compressive stresses while bending in seaw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ior structural efficiency because most of the plating stiffeners are in the fore and aft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411480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ntrusion of deep webs into prime cargo spaces for ships carrying packaged cargo is a disadvantage of longitudinal framing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1400" indent="-22140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the hull narrows toward bow and stem, the girth necessary redu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1400" indent="-22140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ficulties in construction arise when the longitudinal frames converge so clos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1400" indent="-22140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is reason, transverse framing is usually resorted to at the bow and stem of longitudinally framed shi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0" t="0" r="0" b="15566"/>
          <a:stretch/>
        </p:blipFill>
        <p:spPr>
          <a:xfrm>
            <a:off x="4676760" y="2286000"/>
            <a:ext cx="4419720" cy="29178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BINED FRAMING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mbination of both transverse and longitudinal framing is adopted in the same cross section of the shi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itudinal framing is used in the bottom and dec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has the advantage of extra longitudinal strength and resistance to compressive plate buck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verse framing is used in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ecludes the need for deep webs that might inhibit efficient cargo stow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6:07:43Z</dcterms:created>
  <dc:creator>CISD</dc:creator>
  <dc:description/>
  <dc:language>en-US</dc:language>
  <cp:lastModifiedBy>CISD</cp:lastModifiedBy>
  <dcterms:modified xsi:type="dcterms:W3CDTF">2005-08-25T07:36:55Z</dcterms:modified>
  <cp:revision>18</cp:revision>
  <dc:subject/>
  <dc:title>HULL FRAMING SYSTEMS</dc:title>
</cp:coreProperties>
</file>