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5A64-DCA6-4780-A799-57C84952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83A-CA59-4247-A7F0-2BE4A0C7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73DC-3D02-45D9-872A-0696B781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4959-C294-433A-80F4-21EB09C0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D7D3-E658-4CC7-B9AF-9CF3DF4B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ADE2-F2D4-4DBC-B6E3-AD14F1DB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F320-7DD8-4FE0-8F5D-35A5B31A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4EF7-9A2E-41DD-B5A4-38A7BF18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BFD8-4AC9-419B-A8BD-F9FAD1C7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8A2D-56BE-47BC-8A84-A4025265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BD6C-372F-4BF2-91AD-09B57055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8465-BEBD-4D76-832E-DDAFD956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9ACC-6EB9-4832-BB96-C9B87BF2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EE31-059C-4E4B-922D-FE27DD18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0BE9-B043-46BF-839B-92EB485E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1D16-650E-45EC-BA5F-A93FA0AC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DCEB-9D17-4AEF-BA05-AD1FB962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BB1-490A-47E0-BB50-37761DE5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3B9C-B899-4DDE-A75D-AC87B186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D7AD-63B5-46F2-9EF2-B94B3626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B480-3C5D-44C2-9792-201525C4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9DC7-B760-400E-B059-DF175213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0A6-F466-43D5-969A-9F057FF0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693E-56DC-423D-9276-02032264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A691-0234-4E57-8C4A-E1E3A4AEA1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976C-57D0-4915-BA78-B0AEE28DB0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SHELL CONSTRUCTION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MS(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ASSIFICATION SOCIETY REQUIREMEN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ness calculation of bottom plates be based on lateral pressure and longitudinal buckling strength of pl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shell plating are fitted in way of attachments to stern frame for heel and boss plates in way of spectacle bossing as these areas are subjected to heavy stre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tions in the thickness of shell pl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HELL PLAT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tern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kin of 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sts of bottom shell plating and the side shell pla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s as a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atertight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es significantly t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ngitudinal streng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4237" r="0" b="0"/>
          <a:stretch/>
        </p:blipFill>
        <p:spPr>
          <a:xfrm>
            <a:off x="5257800" y="2286000"/>
            <a:ext cx="323856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tom plating refers to the plating from the keel to the turn of the bil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has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eatest thickn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cause bending stresses is greatest as the plates are located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rthest from the neutral ax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OTTOM SHELL PLAT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 strip 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ngitudinal pla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allel to the keel pla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niform thickn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e parallel middle body region but tapering towards the ends of the vess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RAK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DE SHELL PLAT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s to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ertical pla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the upper turn of bilge to the weather de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pper stra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plating adjacent to the strength deck is known as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eer stra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eer stra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located at a great distance from the neutral axis, it ha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eater thickn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n other strak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DE SHELL PLAT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the spacing of stiffening members on shell plating is remarkably different from the spacing, actual spaces is to be used in calculating the thickness of shell plat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IDE SHELL WITH TRANSVERSE FRAM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-2107" t="345" r="0" b="8622"/>
          <a:stretch/>
        </p:blipFill>
        <p:spPr>
          <a:xfrm>
            <a:off x="2593800" y="1600200"/>
            <a:ext cx="3807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DE AND BILGE STRUCT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4852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0:22:16Z</dcterms:created>
  <dc:creator>CISD</dc:creator>
  <dc:description/>
  <dc:language>en-US</dc:language>
  <cp:lastModifiedBy>CISD</cp:lastModifiedBy>
  <dcterms:modified xsi:type="dcterms:W3CDTF">2005-09-05T11:46:18Z</dcterms:modified>
  <cp:revision>17</cp:revision>
  <dc:subject/>
  <dc:title>SHELL CONSTRUCTION</dc:title>
</cp:coreProperties>
</file>