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536-6795-41DE-83F4-7C78E72A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F9E-A90D-49F7-BDF8-408C2150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136-49B6-470A-938D-BCC2791A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092-C44F-499D-BE41-A671034B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8FA8-5A4F-4763-8533-FB494117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3113-E3C8-41BB-8917-DE6DD53E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F939-3C83-4397-882A-2259ABD1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D8C3-CFA8-4879-AE4C-22AC9FF7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0797-1532-4321-8162-7C068123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442B-4C8B-429B-9524-B293C06B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F8A1-7417-4B20-B4EC-FA944C01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D26-B5A9-48F3-BE85-C9D40538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B3BE-B037-495B-836A-216E361A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26A7-9A75-41B5-9AF9-810A465D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2E04-298F-4FEF-A966-31779AB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86F7-738C-4F0A-BF21-D07CC4F1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5202-AB69-4C49-B214-0444035D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715-ECF3-4068-8EDF-019352A6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920-6816-4D66-9DFD-14CAB3CE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D33-7D1E-4FCF-B40A-A4F450BC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83B-199C-4EA8-AD8B-51B935C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95E-5C14-4252-89D9-4880ED6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669-5E58-4833-8796-7C17720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772-CDE3-453C-B994-456A81B1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61F4-E809-4509-9760-6D8B63B101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B9C-5049-4692-830C-3B6C329AA7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SHELL CONSTRUCTION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S(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ASSIFICATION SOCIETY REQUIREMEN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ness calculation of bottom plates be based on lateral pressure and longitudinal buckling strength of p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shell plating are fitted in way of attachments to stern frame for heel and boss plates in way of spectacle bossing as these areas are subjected to heavy str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s in the thickness of shell pl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r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kin of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s of bottom shell plating and the side shell pl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tertight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es significantly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ngitudinal streng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4237" r="0" b="0"/>
          <a:stretch/>
        </p:blipFill>
        <p:spPr>
          <a:xfrm>
            <a:off x="5257800" y="2286000"/>
            <a:ext cx="32385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tom plating refers to the plating from the keel to the turn of the bil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a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est thick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bending stresses is greatest as the plates are locate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rthest from the neutral ax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TTOM 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strip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ngitudinal pl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allel to the keel pl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iform thick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parallel middle body region but tapering towards the ends of the ves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AK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DE 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ertical pl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the upper turn of bilge to the weather d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per str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plating adjacent to the strength deck is known a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eer str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eer str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located at a great distance from the neutral axis, it ha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er thick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n other stra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DE 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he spacing of stiffening members on shell plating is remarkably different from the spacing, actual spaces is to be used in calculating the thickness of shell pla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DE SHELL WITH TRANSVERSE FRAM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-2107" t="345" r="0" b="8622"/>
          <a:stretch/>
        </p:blipFill>
        <p:spPr>
          <a:xfrm>
            <a:off x="2593800" y="1600200"/>
            <a:ext cx="3807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DE AND BILGE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485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0:22:16Z</dcterms:created>
  <dc:creator>CISD</dc:creator>
  <dc:description/>
  <dc:language>en-US</dc:language>
  <cp:lastModifiedBy>CISD</cp:lastModifiedBy>
  <dcterms:modified xsi:type="dcterms:W3CDTF">2005-09-05T11:46:18Z</dcterms:modified>
  <cp:revision>17</cp:revision>
  <dc:subject/>
  <dc:title>SHELL CONSTRUCTION</dc:title>
</cp:coreProperties>
</file>