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3F8-2752-4053-98AC-DD1D7CA3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F1F-A35E-4610-8D22-6097370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28C-91AE-46EB-BC36-003A0279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2F6-FF39-424F-B96E-22907878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CDCE-F5C8-4B19-B5B8-4E6F2347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803B-5C70-43C2-AE03-0EF31F9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3503-EE0C-44CB-916C-767719F9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F55E-26D6-4D8E-9100-F672CB4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033-6220-4F07-9352-3EBAF6AE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075D-6394-412C-B266-A468A2DA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002-EF4E-44D8-A7DD-BB83DB37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4F7-0E00-4EF1-9D5F-912EEA7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4003-E84B-4150-8D2C-FEBA9E1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A92A-B9F2-488E-9BB7-CADAF64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DE5D-9A64-48BD-89A2-394C3F1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BEE6-937F-4440-9EFB-555E9E91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4110-7E51-4D12-9D1C-F58E5D79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2E5-125F-47B8-8B6D-E5225797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E32-FDDE-4F7A-9CE0-175AD691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42C-EC40-41C9-96F7-0C584640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041-1C5B-4DFD-A38C-4EE977FB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A95-4317-40D5-BDC1-DEA0B46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8C2-1661-474E-B841-E8E55F0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108-1D01-4019-895E-203ADD1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AB9-A092-4CC9-94D4-2BAB624905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F8F4-5F1C-4F1D-B4F9-6CB116F84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SHELL CONSTRUCTION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S(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ASSIFICATION SOCIETY REQUIREMEN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ness calculation of bottom plates be based on lateral pressure and longitudinal buckling strength of p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shell plating are fitted in way of attachments to stern frame for heel and boss plates in way of spectacle bossing as these areas are subjected to heavy str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s in the thickness of shell pl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r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kin of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s of bottom shell plating and the side shell 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tight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es significantly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ngitudinal streng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4237" r="0" b="0"/>
          <a:stretch/>
        </p:blipFill>
        <p:spPr>
          <a:xfrm>
            <a:off x="5257800" y="2286000"/>
            <a:ext cx="32385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tom plating refers to the plating from the keel to the turn of the bil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est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bending stresses is greatest as the plates are locat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rthest from the neutral ax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strip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ngitudinal pl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allel to the keel 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iform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parallel middle body region but tapering towards the ends of the ve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AK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tical pl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the upper turn of bilge to the weather d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p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plating adjacent to the strength deck is known 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e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e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ocated at a great distance from the neutral axis, it ha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er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n other stra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 spacing of stiffening members on shell plating is remarkably different from the spacing, actual spaces is to be used in calculating the thickness of shell pla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DE SHELL WITH TRANSVERSE FRAM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-2107" t="345" r="0" b="8622"/>
          <a:stretch/>
        </p:blipFill>
        <p:spPr>
          <a:xfrm>
            <a:off x="2593800" y="1600200"/>
            <a:ext cx="380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AND BILGE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22:16Z</dcterms:created>
  <dc:creator>CISD</dc:creator>
  <dc:description/>
  <dc:language>en-US</dc:language>
  <cp:lastModifiedBy>CISD</cp:lastModifiedBy>
  <dcterms:modified xsi:type="dcterms:W3CDTF">2005-09-05T11:46:18Z</dcterms:modified>
  <cp:revision>17</cp:revision>
  <dc:subject/>
  <dc:title>SHELL CONSTRUCTION</dc:title>
</cp:coreProperties>
</file>