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CE85E1-D8A4-4B5B-ABF5-FC44716361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6862A-F1A6-4FF4-9497-1F2BBCA5A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241036-8C29-4654-833A-52A824A04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2DA284-80FC-4089-91BF-5E7A3A0B4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283ED-17F2-41F4-A096-6D9183B25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379D8-83B2-407B-A799-F959459A7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83279-0D07-42BC-814D-39DAF3EC3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7F711-4A49-494C-9EB0-1405579EF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629D5-3AAC-4D7A-AE86-40DD0AA77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41F68-B15E-4257-9302-5FCEF7C15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253F3-9CCF-4BF3-9F81-F1C6F2CD2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9282E-01F7-4651-A81F-E620500E09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133A6-893A-49D0-988E-95EC3AC688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rot="10800000">
            <a:off x="5292720" y="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rot="5400000">
            <a:off x="-332640" y="800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1618200" y="2133720"/>
            <a:ext cx="6739920" cy="1739880"/>
          </a:xfrm>
          <a:prstGeom prst="rect">
            <a:avLst/>
          </a:prstGeom>
          <a:gradFill rotWithShape="0">
            <a:gsLst>
              <a:gs pos="0">
                <a:srgbClr val="ffffff"/>
              </a:gs>
              <a:gs pos="100000">
                <a:srgbClr val="ccff6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El servicio de apoyo académico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a la escuela y el fortalecimiento</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de la supervisión y la asesoría</a:t>
            </a:r>
            <a:endParaRPr b="0" lang="en-US" sz="3600" spc="-1" strike="noStrike">
              <a:solidFill>
                <a:srgbClr val="000000"/>
              </a:solidFill>
              <a:latin typeface="Arial"/>
            </a:endParaRPr>
          </a:p>
        </p:txBody>
      </p:sp>
      <p:sp>
        <p:nvSpPr>
          <p:cNvPr id="44" name=""/>
          <p:cNvSpPr/>
          <p:nvPr/>
        </p:nvSpPr>
        <p:spPr>
          <a:xfrm>
            <a:off x="5972040" y="6108840"/>
            <a:ext cx="17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Coahuila 2006</a:t>
            </a:r>
            <a:endParaRPr b="0" lang="en-US" sz="1800" spc="-1" strike="noStrike">
              <a:solidFill>
                <a:srgbClr val="000000"/>
              </a:solidFill>
              <a:latin typeface="Arial"/>
            </a:endParaRPr>
          </a:p>
        </p:txBody>
      </p:sp>
      <p:grpSp>
        <p:nvGrpSpPr>
          <p:cNvPr id="45" name=""/>
          <p:cNvGrpSpPr/>
          <p:nvPr/>
        </p:nvGrpSpPr>
        <p:grpSpPr>
          <a:xfrm>
            <a:off x="0" y="0"/>
            <a:ext cx="503280" cy="6858000"/>
            <a:chOff x="0" y="0"/>
            <a:chExt cx="503280" cy="6858000"/>
          </a:xfrm>
        </p:grpSpPr>
        <p:sp>
          <p:nvSpPr>
            <p:cNvPr id="46"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rot="10800000">
            <a:off x="5292720" y="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rot="5400000">
            <a:off x="-332640" y="800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36" name=""/>
          <p:cNvGraphicFramePr/>
          <p:nvPr/>
        </p:nvGraphicFramePr>
        <p:xfrm>
          <a:off x="663480" y="333360"/>
          <a:ext cx="8229600" cy="6227640"/>
        </p:xfrm>
        <a:graphic>
          <a:graphicData uri="http://schemas.openxmlformats.org/drawingml/2006/table">
            <a:tbl>
              <a:tblPr/>
              <a:tblGrid>
                <a:gridCol w="1922400"/>
                <a:gridCol w="2125800"/>
                <a:gridCol w="2128680"/>
                <a:gridCol w="2052720"/>
              </a:tblGrid>
              <a:tr h="5202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Maiandra GD"/>
                        </a:rPr>
                        <a:t>Programas generale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Maiandra GD"/>
                        </a:rPr>
                        <a:t>Programas regional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Maiandra GD"/>
                        </a:rPr>
                        <a:t>Programas especial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Maiandra GD"/>
                        </a:rPr>
                        <a:t>Proyecto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8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onsejos técnico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AR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AG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TG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La calidad en el servicio educativ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Gestión educativ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La salud comienza con la educació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Derechos de los niños y las niñ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uéntame de la naturalez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Seguridad y emergencia escola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Escuela comprometid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revención del delit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Red escola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Red edus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Integración educativ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Aniversarios de las escuela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Danzas regional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El niño y la ma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Símbolos patrio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omposiciones a los símbolos patrio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Escolt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oncurso interno de escoltas (profesores SNT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Héroe del fuego (bombero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Reyna de la primaver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Lectur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Rond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Iniciación al ritm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Ejercicios de orden y contro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Salto de cuerd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Juegos tradicional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Juegos deportivo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Música color y canto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oesí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Ronda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orrespondencia interescola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revención del sid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rimeros auxilio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Rescate ecológic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Semana estatal de salu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México también cuenta contigo (IFE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La hepatitis y su prevención (SSA)</a:t>
                      </a:r>
                      <a:r>
                        <a:rPr b="0" lang="es-ES" sz="1400" spc="-1" strike="noStrike">
                          <a:solidFill>
                            <a:srgbClr val="000000"/>
                          </a:solidFill>
                          <a:latin typeface="Maiandra GD"/>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37" name=""/>
          <p:cNvGrpSpPr/>
          <p:nvPr/>
        </p:nvGrpSpPr>
        <p:grpSpPr>
          <a:xfrm>
            <a:off x="0" y="0"/>
            <a:ext cx="503280" cy="6858000"/>
            <a:chOff x="0" y="0"/>
            <a:chExt cx="503280" cy="6858000"/>
          </a:xfrm>
        </p:grpSpPr>
        <p:sp>
          <p:nvSpPr>
            <p:cNvPr id="138"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rot="10800000">
            <a:off x="5292720" y="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rot="5400000">
            <a:off x="-332640" y="800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43" name=""/>
          <p:cNvGraphicFramePr/>
          <p:nvPr/>
        </p:nvGraphicFramePr>
        <p:xfrm>
          <a:off x="663480" y="549360"/>
          <a:ext cx="8229600" cy="5759280"/>
        </p:xfrm>
        <a:graphic>
          <a:graphicData uri="http://schemas.openxmlformats.org/drawingml/2006/table">
            <a:tbl>
              <a:tblPr/>
              <a:tblGrid>
                <a:gridCol w="1922400"/>
                <a:gridCol w="2127240"/>
                <a:gridCol w="2346480"/>
                <a:gridCol w="1833480"/>
              </a:tblGrid>
              <a:tr h="5202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Maiandra GD"/>
                        </a:rPr>
                        <a:t>Programas generale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Maiandra GD"/>
                        </a:rPr>
                        <a:t>Programas regional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Maiandra GD"/>
                        </a:rPr>
                        <a:t>Programas especial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Maiandra GD"/>
                        </a:rPr>
                        <a:t>Proyecto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91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artilla turística escola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Uso del agua en el 2000</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XII Censo general de población y viviend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Escuela para padr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Manitas limpi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amino a la secundari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De basquetbo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De fútbo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Atletism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Voleibo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oncurso del marranit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Fonomímic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Desfile del medio ambient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orras al agu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Desfile de la salu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Uso racional del agu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El día de la lectur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Alumno distinguido de sexto añ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onmemoración de fechas muy importantes en la histori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oncurso de papalot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Ligas deportiv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roducciones escrit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omo soy y como es mi maestra</a:t>
                      </a:r>
                      <a:r>
                        <a:rPr b="0" lang="es-ES" sz="1400" spc="-1" strike="noStrike">
                          <a:solidFill>
                            <a:srgbClr val="000000"/>
                          </a:solidFill>
                          <a:latin typeface="Maiandra GD"/>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44" name=""/>
          <p:cNvGrpSpPr/>
          <p:nvPr/>
        </p:nvGrpSpPr>
        <p:grpSpPr>
          <a:xfrm>
            <a:off x="0" y="0"/>
            <a:ext cx="503280" cy="6858000"/>
            <a:chOff x="0" y="0"/>
            <a:chExt cx="503280" cy="6858000"/>
          </a:xfrm>
        </p:grpSpPr>
        <p:sp>
          <p:nvSpPr>
            <p:cNvPr id="145"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rot="10800000">
            <a:off x="5292720" y="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rot="5400000">
            <a:off x="-332640" y="800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50" name=""/>
          <p:cNvGraphicFramePr/>
          <p:nvPr/>
        </p:nvGraphicFramePr>
        <p:xfrm>
          <a:off x="762120" y="620640"/>
          <a:ext cx="8381880" cy="5932440"/>
        </p:xfrm>
        <a:graphic>
          <a:graphicData uri="http://schemas.openxmlformats.org/drawingml/2006/table">
            <a:tbl>
              <a:tblPr/>
              <a:tblGrid>
                <a:gridCol w="3801960"/>
                <a:gridCol w="4579920"/>
              </a:tblGrid>
              <a:tr h="5976000">
                <a:tc>
                  <a:txBody>
                    <a:bodyPr lIns="90000" rIns="90000" tIns="46800" bIns="46800" anchor="t">
                      <a:noAutofit/>
                    </a:bodyPr>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Calavera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Ofrenda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Hallowwen</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Villancico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Piñata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Exposición navideña</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Pastorela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Intercambio de regalo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Cómo envolver un regalo navideño</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Recetas navideña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Reyes mago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Para ti qué es la amistad</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Reseña de la primavera</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Jornadas de los niño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Pintura infantil</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Olimpiada del conocimiento</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Danzas regionale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El niño y la mar</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Símbolos patrio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Composiciones a los símbolos patrio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Escolta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Himno Nacional</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Concurso interno de escoltas (profesores SNTE)</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Héroe del fuego (bombero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Reyna de la primavera</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El día de la lectura l</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Ronda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Iniciación al ritmo</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Ejercicios de orden y control</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Salto de cuerda</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Juegos tradicionale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Juegos deportivo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Tablas rítmica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De basquetbol</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De fútbol</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Atletismo</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Voleibol</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Ligas deportiva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Música color y canto</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Poesía</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Concurso del marranito</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Fonomimica</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Desfile del medio ambiente</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Porras al agua</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Desfile de la salud</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Uso racional del agua (concurso de cartele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El día de la lectura</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Conmemoración de fechas muy importantes en la historia</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Concurso de papalote</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Cómo veo a mi papá</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Como soy y como es mi maestra</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Producciones escritas</a:t>
                      </a:r>
                      <a:endParaRPr b="0" lang="en-US" sz="1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51" name=""/>
          <p:cNvSpPr/>
          <p:nvPr/>
        </p:nvSpPr>
        <p:spPr>
          <a:xfrm>
            <a:off x="1269360" y="260280"/>
            <a:ext cx="149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Maiandra GD"/>
              </a:rPr>
              <a:t>Concursos</a:t>
            </a:r>
            <a:endParaRPr b="0" lang="en-US" sz="2000" spc="-1" strike="noStrike">
              <a:solidFill>
                <a:srgbClr val="000000"/>
              </a:solidFill>
              <a:latin typeface="Arial"/>
            </a:endParaRPr>
          </a:p>
        </p:txBody>
      </p:sp>
      <p:grpSp>
        <p:nvGrpSpPr>
          <p:cNvPr id="152" name=""/>
          <p:cNvGrpSpPr/>
          <p:nvPr/>
        </p:nvGrpSpPr>
        <p:grpSpPr>
          <a:xfrm>
            <a:off x="0" y="0"/>
            <a:ext cx="503280" cy="6858000"/>
            <a:chOff x="0" y="0"/>
            <a:chExt cx="503280" cy="6858000"/>
          </a:xfrm>
        </p:grpSpPr>
        <p:sp>
          <p:nvSpPr>
            <p:cNvPr id="153"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rot="10800000">
            <a:off x="5292720" y="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rot="5400000">
            <a:off x="-332640" y="800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6600" y="609480"/>
            <a:ext cx="7860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Berlin Sans FB"/>
                <a:ea typeface="Times New Roman"/>
              </a:rPr>
              <a:t>Servicio de apoyo y asesoría a la escuela</a:t>
            </a:r>
            <a:endParaRPr b="0" lang="en-US" sz="3200" spc="-1" strike="noStrike">
              <a:solidFill>
                <a:srgbClr val="000000"/>
              </a:solidFill>
              <a:latin typeface="Arial"/>
            </a:endParaRPr>
          </a:p>
        </p:txBody>
      </p:sp>
      <p:grpSp>
        <p:nvGrpSpPr>
          <p:cNvPr id="159" name=""/>
          <p:cNvGrpSpPr/>
          <p:nvPr/>
        </p:nvGrpSpPr>
        <p:grpSpPr>
          <a:xfrm>
            <a:off x="550080" y="1700280"/>
            <a:ext cx="7694640" cy="4530960"/>
            <a:chOff x="550080" y="1700280"/>
            <a:chExt cx="7694640" cy="4530960"/>
          </a:xfrm>
        </p:grpSpPr>
        <p:sp>
          <p:nvSpPr>
            <p:cNvPr id="160" name=""/>
            <p:cNvSpPr/>
            <p:nvPr/>
          </p:nvSpPr>
          <p:spPr>
            <a:xfrm>
              <a:off x="3184560" y="1964520"/>
              <a:ext cx="2664000" cy="1519560"/>
            </a:xfrm>
            <a:prstGeom prst="triangle">
              <a:avLst>
                <a:gd name="adj" fmla="val 50000"/>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885840" y="5268240"/>
              <a:ext cx="1331640" cy="462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4010400" y="5270040"/>
              <a:ext cx="125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Gill Sans MT"/>
                </a:rPr>
                <a:t>Escuela</a:t>
              </a:r>
              <a:endParaRPr b="0" lang="en-US" sz="2400" spc="-1" strike="noStrike">
                <a:solidFill>
                  <a:srgbClr val="000000"/>
                </a:solidFill>
                <a:latin typeface="Arial"/>
              </a:endParaRPr>
            </a:p>
          </p:txBody>
        </p:sp>
        <p:sp>
          <p:nvSpPr>
            <p:cNvPr id="163" name=""/>
            <p:cNvSpPr/>
            <p:nvPr/>
          </p:nvSpPr>
          <p:spPr>
            <a:xfrm>
              <a:off x="3339000" y="3064320"/>
              <a:ext cx="249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Gill Sans MT"/>
                </a:rPr>
                <a:t>Supervisión escolar</a:t>
              </a:r>
              <a:endParaRPr b="0" lang="en-US" sz="2000" spc="-1" strike="noStrike">
                <a:solidFill>
                  <a:srgbClr val="000000"/>
                </a:solidFill>
                <a:latin typeface="Arial"/>
              </a:endParaRPr>
            </a:p>
          </p:txBody>
        </p:sp>
        <p:sp>
          <p:nvSpPr>
            <p:cNvPr id="164" name=""/>
            <p:cNvSpPr/>
            <p:nvPr/>
          </p:nvSpPr>
          <p:spPr>
            <a:xfrm>
              <a:off x="5937840" y="3484080"/>
              <a:ext cx="230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Gill Sans MT"/>
                </a:rPr>
                <a:t>Centro de maestros</a:t>
              </a:r>
              <a:endParaRPr b="0" lang="en-US" sz="1800" spc="-1" strike="noStrike">
                <a:solidFill>
                  <a:srgbClr val="000000"/>
                </a:solidFill>
                <a:latin typeface="Arial"/>
              </a:endParaRPr>
            </a:p>
          </p:txBody>
        </p:sp>
        <p:sp>
          <p:nvSpPr>
            <p:cNvPr id="165" name=""/>
            <p:cNvSpPr/>
            <p:nvPr/>
          </p:nvSpPr>
          <p:spPr>
            <a:xfrm>
              <a:off x="550080" y="3352320"/>
              <a:ext cx="2948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Gill Sans MT"/>
                </a:rPr>
                <a:t>Instituciones formadora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Gill Sans MT"/>
                </a:rPr>
                <a:t>de docentes</a:t>
              </a:r>
              <a:endParaRPr b="0" lang="en-US" sz="1800" spc="-1" strike="noStrike">
                <a:solidFill>
                  <a:srgbClr val="000000"/>
                </a:solidFill>
                <a:latin typeface="Arial"/>
              </a:endParaRPr>
            </a:p>
          </p:txBody>
        </p:sp>
        <p:sp>
          <p:nvSpPr>
            <p:cNvPr id="166" name=""/>
            <p:cNvSpPr/>
            <p:nvPr/>
          </p:nvSpPr>
          <p:spPr>
            <a:xfrm>
              <a:off x="3258720" y="1700280"/>
              <a:ext cx="337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Gill Sans MT"/>
                </a:rPr>
                <a:t>Necesidades institucionales</a:t>
              </a:r>
              <a:endParaRPr b="0" lang="en-US" sz="1800" spc="-1" strike="noStrike">
                <a:solidFill>
                  <a:srgbClr val="000000"/>
                </a:solidFill>
                <a:latin typeface="Arial"/>
              </a:endParaRPr>
            </a:p>
          </p:txBody>
        </p:sp>
        <p:sp>
          <p:nvSpPr>
            <p:cNvPr id="167" name=""/>
            <p:cNvSpPr/>
            <p:nvPr/>
          </p:nvSpPr>
          <p:spPr>
            <a:xfrm>
              <a:off x="3044520" y="4012920"/>
              <a:ext cx="841320" cy="85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H="1">
              <a:off x="5217480" y="4012920"/>
              <a:ext cx="771480" cy="85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516920" y="3352320"/>
              <a:ext cx="0" cy="7927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3044520" y="3748680"/>
              <a:ext cx="280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2147040" y="5862960"/>
              <a:ext cx="548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Gill Sans MT"/>
                </a:rPr>
                <a:t>¿Quién debe apoyar y asesorar a los docentes?</a:t>
              </a:r>
              <a:endParaRPr b="0" lang="en-US" sz="1800" spc="-1" strike="noStrike">
                <a:solidFill>
                  <a:srgbClr val="000000"/>
                </a:solidFill>
                <a:latin typeface="Arial"/>
              </a:endParaRPr>
            </a:p>
          </p:txBody>
        </p:sp>
        <p:sp>
          <p:nvSpPr>
            <p:cNvPr id="172" name=""/>
            <p:cNvSpPr/>
            <p:nvPr/>
          </p:nvSpPr>
          <p:spPr>
            <a:xfrm flipV="1">
              <a:off x="3184560" y="3880800"/>
              <a:ext cx="2664000" cy="1453680"/>
            </a:xfrm>
            <a:prstGeom prst="triangle">
              <a:avLst>
                <a:gd name="adj" fmla="val 50000"/>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3" name=""/>
          <p:cNvGrpSpPr/>
          <p:nvPr/>
        </p:nvGrpSpPr>
        <p:grpSpPr>
          <a:xfrm>
            <a:off x="0" y="0"/>
            <a:ext cx="503280" cy="6858000"/>
            <a:chOff x="0" y="0"/>
            <a:chExt cx="503280" cy="6858000"/>
          </a:xfrm>
        </p:grpSpPr>
        <p:sp>
          <p:nvSpPr>
            <p:cNvPr id="174"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rot="10800000">
            <a:off x="5292720" y="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rot="5400000">
            <a:off x="-332640" y="800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611280" y="816120"/>
            <a:ext cx="8151840" cy="37515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La formación continua: una prioridad en la profesionalización docente</a:t>
            </a:r>
            <a:r>
              <a:rPr b="1" lang="en-US" sz="2400" spc="-1" strike="noStrike">
                <a:solidFill>
                  <a:srgbClr val="000000"/>
                </a:solidFill>
                <a:latin typeface="Times New Roman"/>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sideramos a la docencia una profesión?</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sideramos que la formación continua es un aspecto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clave si se quiere profesionalizar la docencia?</a:t>
            </a:r>
            <a:endParaRPr b="0" lang="en-US" sz="2400" spc="-1" strike="noStrike">
              <a:solidFill>
                <a:srgbClr val="000000"/>
              </a:solidFill>
              <a:latin typeface="Arial"/>
            </a:endParaRPr>
          </a:p>
        </p:txBody>
      </p:sp>
      <p:grpSp>
        <p:nvGrpSpPr>
          <p:cNvPr id="180" name=""/>
          <p:cNvGrpSpPr/>
          <p:nvPr/>
        </p:nvGrpSpPr>
        <p:grpSpPr>
          <a:xfrm>
            <a:off x="0" y="0"/>
            <a:ext cx="503280" cy="6858000"/>
            <a:chOff x="0" y="0"/>
            <a:chExt cx="503280" cy="6858000"/>
          </a:xfrm>
        </p:grpSpPr>
        <p:sp>
          <p:nvSpPr>
            <p:cNvPr id="181"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rot="10800000">
            <a:off x="5292720" y="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rot="5400000">
            <a:off x="-332640" y="800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1143000" y="3886200"/>
            <a:ext cx="2514600" cy="762120"/>
          </a:xfrm>
          <a:prstGeom prst="rect">
            <a:avLst/>
          </a:prstGeom>
          <a:noFill/>
          <a:ln w="28440">
            <a:solidFill>
              <a:srgbClr val="c8090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1042920" y="2276640"/>
            <a:ext cx="7239240" cy="990360"/>
          </a:xfrm>
          <a:prstGeom prst="rect">
            <a:avLst/>
          </a:prstGeom>
          <a:noFill/>
          <a:ln w="28440">
            <a:solidFill>
              <a:srgbClr val="c8090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685800" y="228600"/>
            <a:ext cx="769608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Ángel Díaz Barriga y Catalina Inclán Espinosa, </a:t>
            </a:r>
            <a:r>
              <a:rPr b="1" lang="es-MX" sz="2000" spc="-1" strike="noStrike">
                <a:solidFill>
                  <a:srgbClr val="000000"/>
                </a:solidFill>
                <a:latin typeface="Times New Roman"/>
                <a:ea typeface="Times New Roman"/>
              </a:rPr>
              <a:t>“El docente en las reformas educativas: sujeto o ejecutor de proyectos ajenos”,</a:t>
            </a:r>
            <a:r>
              <a:rPr b="0" lang="es-MX" sz="2000" spc="-1" strike="noStrike">
                <a:solidFill>
                  <a:srgbClr val="000000"/>
                </a:solidFill>
                <a:latin typeface="Times New Roman"/>
                <a:ea typeface="Times New Roman"/>
              </a:rPr>
              <a:t> Revista Iberoamericana de educación, núm. 25 enero-abril 2001.</a:t>
            </a:r>
            <a:r>
              <a:rPr b="0" lang="en-US" sz="1100" spc="-1" strike="noStrike">
                <a:solidFill>
                  <a:srgbClr val="000000"/>
                </a:solidFill>
                <a:latin typeface="Times New Roman"/>
              </a:rPr>
              <a:t> </a:t>
            </a:r>
            <a:endParaRPr b="0" lang="en-US" sz="1100" spc="-1" strike="noStrike">
              <a:solidFill>
                <a:srgbClr val="000000"/>
              </a:solidFill>
              <a:latin typeface="Arial"/>
            </a:endParaRPr>
          </a:p>
        </p:txBody>
      </p:sp>
      <p:sp>
        <p:nvSpPr>
          <p:cNvPr id="189" name=""/>
          <p:cNvSpPr/>
          <p:nvPr/>
        </p:nvSpPr>
        <p:spPr>
          <a:xfrm>
            <a:off x="1217880" y="3962520"/>
            <a:ext cx="239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2. Elevado estatus</a:t>
            </a:r>
            <a:endParaRPr b="0" lang="en-US" sz="2400" spc="-1" strike="noStrike">
              <a:solidFill>
                <a:srgbClr val="000000"/>
              </a:solidFill>
              <a:latin typeface="Arial"/>
            </a:endParaRPr>
          </a:p>
        </p:txBody>
      </p:sp>
      <p:sp>
        <p:nvSpPr>
          <p:cNvPr id="190" name=""/>
          <p:cNvSpPr/>
          <p:nvPr/>
        </p:nvSpPr>
        <p:spPr>
          <a:xfrm>
            <a:off x="1068120" y="2286000"/>
            <a:ext cx="7428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1. Gremio que se preocupa por el avance del conocimient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lacionado con su quehacer</a:t>
            </a:r>
            <a:endParaRPr b="0" lang="en-US" sz="2400" spc="-1" strike="noStrike">
              <a:solidFill>
                <a:srgbClr val="000000"/>
              </a:solidFill>
              <a:latin typeface="Arial"/>
            </a:endParaRPr>
          </a:p>
        </p:txBody>
      </p:sp>
      <p:sp>
        <p:nvSpPr>
          <p:cNvPr id="191" name=""/>
          <p:cNvSpPr/>
          <p:nvPr/>
        </p:nvSpPr>
        <p:spPr>
          <a:xfrm>
            <a:off x="1137960" y="5257800"/>
            <a:ext cx="5225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3. Mecanismos de acceso y permanenci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efinidos por quienes ejercen la función</a:t>
            </a:r>
            <a:endParaRPr b="0" lang="en-US" sz="2400" spc="-1" strike="noStrike">
              <a:solidFill>
                <a:srgbClr val="000000"/>
              </a:solidFill>
              <a:latin typeface="Arial"/>
            </a:endParaRPr>
          </a:p>
        </p:txBody>
      </p:sp>
      <p:sp>
        <p:nvSpPr>
          <p:cNvPr id="192" name=""/>
          <p:cNvSpPr/>
          <p:nvPr/>
        </p:nvSpPr>
        <p:spPr>
          <a:xfrm>
            <a:off x="1116000" y="5084640"/>
            <a:ext cx="5181480" cy="990720"/>
          </a:xfrm>
          <a:prstGeom prst="rect">
            <a:avLst/>
          </a:prstGeom>
          <a:noFill/>
          <a:ln w="28440">
            <a:solidFill>
              <a:srgbClr val="c8090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3" name=""/>
          <p:cNvGrpSpPr/>
          <p:nvPr/>
        </p:nvGrpSpPr>
        <p:grpSpPr>
          <a:xfrm>
            <a:off x="0" y="0"/>
            <a:ext cx="503280" cy="6858000"/>
            <a:chOff x="0" y="0"/>
            <a:chExt cx="503280" cy="6858000"/>
          </a:xfrm>
        </p:grpSpPr>
        <p:sp>
          <p:nvSpPr>
            <p:cNvPr id="194"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rot="10800000">
            <a:off x="5292720" y="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rot="5400000">
            <a:off x="-332640" y="800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826920" y="4869000"/>
            <a:ext cx="7726680" cy="1523880"/>
          </a:xfrm>
          <a:prstGeom prst="rect">
            <a:avLst/>
          </a:prstGeom>
          <a:noFill/>
          <a:ln w="28440">
            <a:solidFill>
              <a:srgbClr val="c8090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826920" y="3429000"/>
            <a:ext cx="7726680" cy="990720"/>
          </a:xfrm>
          <a:prstGeom prst="rect">
            <a:avLst/>
          </a:prstGeom>
          <a:noFill/>
          <a:ln w="28440">
            <a:solidFill>
              <a:srgbClr val="c8090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826920" y="1916280"/>
            <a:ext cx="7777440" cy="1066680"/>
          </a:xfrm>
          <a:prstGeom prst="rect">
            <a:avLst/>
          </a:prstGeom>
          <a:noFill/>
          <a:ln w="28440">
            <a:solidFill>
              <a:srgbClr val="c8090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380880" y="1981080"/>
            <a:ext cx="81536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es-MX" sz="2400" spc="-1" strike="noStrike">
                <a:solidFill>
                  <a:srgbClr val="000000"/>
                </a:solidFill>
                <a:latin typeface="Times New Roman"/>
                <a:ea typeface="Times New Roman"/>
              </a:rPr>
              <a:t>1. Disponen de una base común de conocimientos todos s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es-MX" sz="2400" spc="-1" strike="noStrike">
                <a:solidFill>
                  <a:srgbClr val="000000"/>
                </a:solidFill>
                <a:latin typeface="Times New Roman"/>
                <a:ea typeface="Times New Roman"/>
              </a:rPr>
              <a:t>miembr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es-MX" sz="2400" spc="-1" strike="noStrike">
                <a:solidFill>
                  <a:srgbClr val="000000"/>
                </a:solidFill>
                <a:latin typeface="Times New Roman"/>
                <a:ea typeface="Times New Roman"/>
              </a:rPr>
              <a:t>2. Responsabilidad de transmitirlos a través de un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es-MX" sz="2400" spc="-1" strike="noStrike">
                <a:solidFill>
                  <a:srgbClr val="000000"/>
                </a:solidFill>
                <a:latin typeface="Times New Roman"/>
                <a:ea typeface="Times New Roman"/>
              </a:rPr>
              <a:t>formación de carácter profesionalizad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es-MX" sz="2400" spc="-1" strike="noStrike">
                <a:solidFill>
                  <a:srgbClr val="000000"/>
                </a:solidFill>
                <a:latin typeface="Times New Roman"/>
                <a:ea typeface="Times New Roman"/>
              </a:rPr>
              <a:t>3. Un proceso de acreditación para el ejercicio profesional 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es-MX" sz="2400" spc="-1" strike="noStrike">
                <a:solidFill>
                  <a:srgbClr val="000000"/>
                </a:solidFill>
                <a:latin typeface="Times New Roman"/>
                <a:ea typeface="Times New Roman"/>
              </a:rPr>
              <a:t>la permanente reconstrucción de los mismos por quien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es-MX" sz="2400" spc="-1" strike="noStrike">
                <a:solidFill>
                  <a:srgbClr val="000000"/>
                </a:solidFill>
                <a:latin typeface="Times New Roman"/>
                <a:ea typeface="Times New Roman"/>
              </a:rPr>
              <a:t>forman parte de ella.</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03" name=""/>
          <p:cNvSpPr/>
          <p:nvPr/>
        </p:nvSpPr>
        <p:spPr>
          <a:xfrm>
            <a:off x="832320" y="476280"/>
            <a:ext cx="5974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Linda Darling-Hammo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El derecho de aprender. Crear buenas escuelas para tod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Biblioteca para la actualización del maestro</a:t>
            </a:r>
            <a:endParaRPr b="0" lang="en-US" sz="1800" spc="-1" strike="noStrike">
              <a:solidFill>
                <a:srgbClr val="000000"/>
              </a:solidFill>
              <a:latin typeface="Arial"/>
            </a:endParaRPr>
          </a:p>
        </p:txBody>
      </p:sp>
      <p:grpSp>
        <p:nvGrpSpPr>
          <p:cNvPr id="204" name=""/>
          <p:cNvGrpSpPr/>
          <p:nvPr/>
        </p:nvGrpSpPr>
        <p:grpSpPr>
          <a:xfrm>
            <a:off x="0" y="0"/>
            <a:ext cx="503280" cy="6858000"/>
            <a:chOff x="0" y="0"/>
            <a:chExt cx="503280" cy="6858000"/>
          </a:xfrm>
        </p:grpSpPr>
        <p:sp>
          <p:nvSpPr>
            <p:cNvPr id="205"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rot="10800000">
            <a:off x="5292720" y="-2700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5400000">
            <a:off x="-332640" y="773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55640" y="4292640"/>
            <a:ext cx="8091360" cy="1523880"/>
          </a:xfrm>
          <a:prstGeom prst="rect">
            <a:avLst/>
          </a:prstGeom>
          <a:noFill/>
          <a:ln w="38160">
            <a:solidFill>
              <a:srgbClr val="4d8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611280" y="1773360"/>
            <a:ext cx="8153280" cy="152388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324000" y="549360"/>
            <a:ext cx="85881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      </a:t>
            </a:r>
            <a:r>
              <a:rPr b="1" lang="es-MX" sz="2400" spc="-1" strike="noStrike">
                <a:solidFill>
                  <a:srgbClr val="000000"/>
                </a:solidFill>
                <a:latin typeface="Times New Roman"/>
                <a:ea typeface="Times New Roman"/>
              </a:rPr>
              <a:t>Primera condición y advertencia para la profesionalizació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es-MX" sz="2400" spc="-1" strike="noStrike">
                <a:solidFill>
                  <a:srgbClr val="000000"/>
                </a:solidFill>
                <a:latin typeface="Times New Roman"/>
                <a:ea typeface="Times New Roman"/>
              </a:rPr>
              <a:t>Conocimientos sólidos y ampliamente compartidos, clarament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es-MX" sz="2400" spc="-1" strike="noStrike">
                <a:solidFill>
                  <a:srgbClr val="000000"/>
                </a:solidFill>
                <a:latin typeface="Times New Roman"/>
                <a:ea typeface="Times New Roman"/>
              </a:rPr>
              <a:t>relacionados con la mejora del aprendizaj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es-MX" sz="2400" spc="-1" strike="noStrike">
                <a:solidFill>
                  <a:srgbClr val="000000"/>
                </a:solidFill>
                <a:latin typeface="Times New Roman"/>
                <a:ea typeface="Times New Roman"/>
              </a:rPr>
              <a:t>Atribuir más autoridad a profesores, directivos o asesores d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es-MX" sz="2400" spc="-1" strike="noStrike">
                <a:solidFill>
                  <a:srgbClr val="000000"/>
                </a:solidFill>
                <a:latin typeface="Times New Roman"/>
                <a:ea typeface="Times New Roman"/>
              </a:rPr>
              <a:t>escasa preparación y compromiso puede conducir a actuacion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es-MX" sz="2400" spc="-1" strike="noStrike">
                <a:solidFill>
                  <a:srgbClr val="000000"/>
                </a:solidFill>
                <a:latin typeface="Times New Roman"/>
                <a:ea typeface="Times New Roman"/>
              </a:rPr>
              <a:t>no más eficaces sino más perjudiciales todavía.</a:t>
            </a:r>
            <a:r>
              <a:rPr b="0" lang="es-MX"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grpSp>
        <p:nvGrpSpPr>
          <p:cNvPr id="213" name=""/>
          <p:cNvGrpSpPr/>
          <p:nvPr/>
        </p:nvGrpSpPr>
        <p:grpSpPr>
          <a:xfrm>
            <a:off x="0" y="0"/>
            <a:ext cx="503280" cy="6858000"/>
            <a:chOff x="0" y="0"/>
            <a:chExt cx="503280" cy="6858000"/>
          </a:xfrm>
        </p:grpSpPr>
        <p:sp>
          <p:nvSpPr>
            <p:cNvPr id="214"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rot="10800000">
            <a:off x="5292720" y="-2700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rot="5400000">
            <a:off x="-332640" y="773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0" y="0"/>
            <a:ext cx="503280" cy="6858000"/>
            <a:chOff x="0" y="0"/>
            <a:chExt cx="503280" cy="6858000"/>
          </a:xfrm>
        </p:grpSpPr>
        <p:sp>
          <p:nvSpPr>
            <p:cNvPr id="220"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rot="5400000">
            <a:off x="-332640" y="800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rot="10800000">
            <a:off x="5292720" y="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11280" y="692280"/>
            <a:ext cx="784836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ill Sans MT"/>
              </a:rPr>
              <a:t>El sistema educativo mexicano ha avanzado de manera considerable en su capacidad mostrada de ampliar la cobertura, de asegurar la oferta de las escuelas, aulas y maestros. Con ello, creció la matrícula disminuyó el analfabetismo, aumentando la escolaridad promedio. Sin embargo, a pesar de los esfuerzos realizados en la última década, esto se ha logrado sin avances significativos en el terreno de la calidad de los aprendizajes adquiridos en las escuelas y con grandes desigualdades entre las distintas regiones del país.</a:t>
            </a:r>
            <a:endParaRPr b="0" lang="en-US" sz="2800" spc="-1" strike="noStrike">
              <a:solidFill>
                <a:srgbClr val="000000"/>
              </a:solidFill>
              <a:latin typeface="Arial"/>
            </a:endParaRPr>
          </a:p>
        </p:txBody>
      </p:sp>
      <p:grpSp>
        <p:nvGrpSpPr>
          <p:cNvPr id="52" name=""/>
          <p:cNvGrpSpPr/>
          <p:nvPr/>
        </p:nvGrpSpPr>
        <p:grpSpPr>
          <a:xfrm>
            <a:off x="0" y="0"/>
            <a:ext cx="503280" cy="6858000"/>
            <a:chOff x="0" y="0"/>
            <a:chExt cx="503280" cy="6858000"/>
          </a:xfrm>
        </p:grpSpPr>
        <p:sp>
          <p:nvSpPr>
            <p:cNvPr id="53"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rot="5400000">
            <a:off x="-332640" y="800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rot="10800000">
            <a:off x="5292720" y="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17560" y="404640"/>
            <a:ext cx="41148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Berlin Sans FB"/>
                <a:ea typeface="Times New Roman"/>
              </a:rPr>
              <a:t>Algunas ideas centrales</a:t>
            </a:r>
            <a:endParaRPr b="0" lang="en-US" sz="3200" spc="-1" strike="noStrike">
              <a:solidFill>
                <a:srgbClr val="000000"/>
              </a:solidFill>
              <a:latin typeface="Arial"/>
            </a:endParaRPr>
          </a:p>
        </p:txBody>
      </p:sp>
      <p:sp>
        <p:nvSpPr>
          <p:cNvPr id="59" name=""/>
          <p:cNvSpPr/>
          <p:nvPr/>
        </p:nvSpPr>
        <p:spPr>
          <a:xfrm>
            <a:off x="755640" y="1541520"/>
            <a:ext cx="8204040" cy="41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5000"/>
              </a:lnSpc>
              <a:spcBef>
                <a:spcPts val="451"/>
              </a:spcBef>
              <a:spcAft>
                <a:spcPts val="1576"/>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a condición fundamental para el cambio de los sistemas educativos es que los profesores puedan cambiar.</a:t>
            </a:r>
            <a:endParaRPr b="0" lang="en-US" sz="1800" spc="-1" strike="noStrike">
              <a:solidFill>
                <a:srgbClr val="000000"/>
              </a:solidFill>
              <a:latin typeface="Arial"/>
            </a:endParaRPr>
          </a:p>
          <a:p>
            <a:pPr marL="343080" indent="-343080">
              <a:lnSpc>
                <a:spcPct val="105000"/>
              </a:lnSpc>
              <a:spcBef>
                <a:spcPts val="451"/>
              </a:spcBef>
              <a:spcAft>
                <a:spcPts val="1576"/>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ejorar la educación básica implica transformar las prácticas de enseñanza de los educadores.</a:t>
            </a:r>
            <a:endParaRPr b="0" lang="en-US" sz="1800" spc="-1" strike="noStrike">
              <a:solidFill>
                <a:srgbClr val="000000"/>
              </a:solidFill>
              <a:latin typeface="Arial"/>
            </a:endParaRPr>
          </a:p>
          <a:p>
            <a:pPr marL="343080" indent="-343080">
              <a:lnSpc>
                <a:spcPct val="90000"/>
              </a:lnSpc>
              <a:spcBef>
                <a:spcPts val="451"/>
              </a:spcBef>
              <a:spcAft>
                <a:spcPts val="1576"/>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prácticas de enseñanza de los maestros no cambian si no lo hace el contexto institucional.</a:t>
            </a:r>
            <a:endParaRPr b="0" lang="en-US" sz="1800" spc="-1" strike="noStrike">
              <a:solidFill>
                <a:srgbClr val="000000"/>
              </a:solidFill>
              <a:latin typeface="Arial"/>
            </a:endParaRPr>
          </a:p>
          <a:p>
            <a:pPr marL="343080" indent="-343080">
              <a:lnSpc>
                <a:spcPct val="90000"/>
              </a:lnSpc>
              <a:spcBef>
                <a:spcPts val="451"/>
              </a:spcBef>
              <a:spcAft>
                <a:spcPts val="1576"/>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actualización y la capacitación de los profesores son una condición necesaria pero no suficiente para la transformación de la educación básica.</a:t>
            </a:r>
            <a:endParaRPr b="0" lang="en-US" sz="1800" spc="-1" strike="noStrike">
              <a:solidFill>
                <a:srgbClr val="000000"/>
              </a:solidFill>
              <a:latin typeface="Arial"/>
            </a:endParaRPr>
          </a:p>
          <a:p>
            <a:pPr marL="343080" indent="-343080">
              <a:lnSpc>
                <a:spcPct val="90000"/>
              </a:lnSpc>
              <a:spcBef>
                <a:spcPts val="451"/>
              </a:spcBef>
              <a:spcAft>
                <a:spcPts val="1576"/>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 necesario proseguir y fortalecer los esfuerzos de actualización y capacitación a la vez que se promueven los cambios institucionales necesarios en las escuelas de educación básica.</a:t>
            </a:r>
            <a:endParaRPr b="0" lang="en-US" sz="1800" spc="-1" strike="noStrike">
              <a:solidFill>
                <a:srgbClr val="000000"/>
              </a:solidFill>
              <a:latin typeface="Arial"/>
            </a:endParaRPr>
          </a:p>
          <a:p>
            <a:pPr marL="343080" indent="-343080">
              <a:lnSpc>
                <a:spcPct val="90000"/>
              </a:lnSpc>
              <a:spcBef>
                <a:spcPts val="451"/>
              </a:spcBef>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 name=""/>
          <p:cNvGrpSpPr/>
          <p:nvPr/>
        </p:nvGrpSpPr>
        <p:grpSpPr>
          <a:xfrm>
            <a:off x="0" y="0"/>
            <a:ext cx="503280" cy="6858000"/>
            <a:chOff x="0" y="0"/>
            <a:chExt cx="503280" cy="6858000"/>
          </a:xfrm>
        </p:grpSpPr>
        <p:sp>
          <p:nvSpPr>
            <p:cNvPr id="61"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rot="10800000">
            <a:off x="5292720" y="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rot="5400000">
            <a:off x="-332640" y="800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615960" y="749160"/>
            <a:ext cx="8204040" cy="411984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spcBef>
                <a:spcPts val="451"/>
              </a:spcBef>
              <a:spcAft>
                <a:spcPts val="1576"/>
              </a:spcAft>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ducir cambios en la calidad de los profesores requiere de un conjunto de estrategias complejas que combinen decisión política, mayor conocimiento científico acerca de las didácticas específicas, diseño de programas idóneos que se basen en dicho conocimiento, mejor empleo de los recursos disponibles.</a:t>
            </a:r>
            <a:endParaRPr b="0" lang="en-US" sz="1800" spc="-1" strike="noStrike">
              <a:solidFill>
                <a:srgbClr val="000000"/>
              </a:solidFill>
              <a:latin typeface="Arial"/>
            </a:endParaRPr>
          </a:p>
          <a:p>
            <a:pPr marL="298440" indent="-298440">
              <a:spcBef>
                <a:spcPts val="451"/>
              </a:spcBef>
              <a:spcAft>
                <a:spcPts val="1576"/>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desarrollo profesional de los educadores requiere de estructuras institucionales coherentes que soporten una carrera docente que se inicia en la formación inicial y prosigue a lo largo de toda la vida a través de la actualización y la capacitación continuas</a:t>
            </a:r>
            <a:endParaRPr b="0" lang="en-US" sz="1800" spc="-1" strike="noStrike">
              <a:solidFill>
                <a:srgbClr val="000000"/>
              </a:solidFill>
              <a:latin typeface="Arial"/>
            </a:endParaRPr>
          </a:p>
          <a:p>
            <a:pPr marL="298440" indent="-298440">
              <a:spcBef>
                <a:spcPts val="451"/>
              </a:spcBef>
              <a:spcAft>
                <a:spcPts val="1576"/>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desarrollo de los servicios estatales de actualización y capacitación de maestros es fundamental para avanzar en la necesaria tarea de mejorar las prácticas de enseñanza de los maestros.</a:t>
            </a:r>
            <a:endParaRPr b="0" lang="en-US" sz="1800" spc="-1" strike="noStrike">
              <a:solidFill>
                <a:srgbClr val="000000"/>
              </a:solidFill>
              <a:latin typeface="Arial"/>
            </a:endParaRPr>
          </a:p>
          <a:p>
            <a:pPr marL="298440" indent="-298440">
              <a:spcBef>
                <a:spcPts val="451"/>
              </a:spcBef>
              <a:spcAft>
                <a:spcPts val="1576"/>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desarrollo de dichos servicios es una responsabilidad mancomunada de las áreas de educación básica y de los responsables de actualización en las entidades federativas.</a:t>
            </a:r>
            <a:endParaRPr b="0" lang="en-US" sz="1800" spc="-1" strike="noStrike">
              <a:solidFill>
                <a:srgbClr val="000000"/>
              </a:solidFill>
              <a:latin typeface="Arial"/>
            </a:endParaRPr>
          </a:p>
        </p:txBody>
      </p:sp>
      <p:grpSp>
        <p:nvGrpSpPr>
          <p:cNvPr id="67" name=""/>
          <p:cNvGrpSpPr/>
          <p:nvPr/>
        </p:nvGrpSpPr>
        <p:grpSpPr>
          <a:xfrm>
            <a:off x="0" y="0"/>
            <a:ext cx="503280" cy="6858000"/>
            <a:chOff x="0" y="0"/>
            <a:chExt cx="503280" cy="6858000"/>
          </a:xfrm>
        </p:grpSpPr>
        <p:sp>
          <p:nvSpPr>
            <p:cNvPr id="68"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rot="10800000">
            <a:off x="5292720" y="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rot="5400000">
            <a:off x="-332640" y="800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116000" y="1052640"/>
            <a:ext cx="74883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 quién hay que apoyar y asesor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n qué apoyar y asesorar a los docent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uándo apoyar y asesorar a los docent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ómo apoyar y asesorar a los docent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Quién debe apoyar y asesorar a los docentes?</a:t>
            </a:r>
            <a:endParaRPr b="0" lang="en-US" sz="2400" spc="-1" strike="noStrike">
              <a:solidFill>
                <a:srgbClr val="000000"/>
              </a:solidFill>
              <a:latin typeface="Arial"/>
            </a:endParaRPr>
          </a:p>
        </p:txBody>
      </p:sp>
      <p:grpSp>
        <p:nvGrpSpPr>
          <p:cNvPr id="74" name=""/>
          <p:cNvGrpSpPr/>
          <p:nvPr/>
        </p:nvGrpSpPr>
        <p:grpSpPr>
          <a:xfrm>
            <a:off x="0" y="0"/>
            <a:ext cx="503280" cy="6858000"/>
            <a:chOff x="0" y="0"/>
            <a:chExt cx="503280" cy="6858000"/>
          </a:xfrm>
        </p:grpSpPr>
        <p:sp>
          <p:nvSpPr>
            <p:cNvPr id="75"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rot="10800000">
            <a:off x="5292720" y="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rot="5400000">
            <a:off x="-332640" y="800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0" name=""/>
          <p:cNvGrpSpPr/>
          <p:nvPr/>
        </p:nvGrpSpPr>
        <p:grpSpPr>
          <a:xfrm>
            <a:off x="1285200" y="1857240"/>
            <a:ext cx="7050960" cy="2781720"/>
            <a:chOff x="1285200" y="1857240"/>
            <a:chExt cx="7050960" cy="2781720"/>
          </a:xfrm>
        </p:grpSpPr>
        <p:sp>
          <p:nvSpPr>
            <p:cNvPr id="81" name=""/>
            <p:cNvSpPr/>
            <p:nvPr/>
          </p:nvSpPr>
          <p:spPr>
            <a:xfrm>
              <a:off x="1285200" y="2111400"/>
              <a:ext cx="2105640" cy="2527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Niveles educativ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Preescol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Preescolar indígen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Primar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Primaria indígen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Primaria multigra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Secundaria gener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Secundaria técnic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telesecundaria</a:t>
              </a:r>
              <a:endParaRPr b="0" lang="en-US" sz="1600" spc="-1" strike="noStrike">
                <a:solidFill>
                  <a:srgbClr val="000000"/>
                </a:solidFill>
                <a:latin typeface="Arial"/>
              </a:endParaRPr>
            </a:p>
          </p:txBody>
        </p:sp>
        <p:sp>
          <p:nvSpPr>
            <p:cNvPr id="82" name=""/>
            <p:cNvSpPr/>
            <p:nvPr/>
          </p:nvSpPr>
          <p:spPr>
            <a:xfrm>
              <a:off x="4101120" y="2111400"/>
              <a:ext cx="175212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Form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Norm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Licenciatu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Normal superi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Técnic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Otra</a:t>
              </a:r>
              <a:endParaRPr b="0" lang="en-US" sz="1600" spc="-1" strike="noStrike">
                <a:solidFill>
                  <a:srgbClr val="000000"/>
                </a:solidFill>
                <a:latin typeface="Arial"/>
              </a:endParaRPr>
            </a:p>
          </p:txBody>
        </p:sp>
        <p:sp>
          <p:nvSpPr>
            <p:cNvPr id="83" name=""/>
            <p:cNvSpPr/>
            <p:nvPr/>
          </p:nvSpPr>
          <p:spPr>
            <a:xfrm>
              <a:off x="6402960" y="2111400"/>
              <a:ext cx="193320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Context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Urban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Urbano margin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Rural desarrollad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Rural indígen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Indígena bilingüe </a:t>
              </a:r>
              <a:endParaRPr b="0" lang="en-US" sz="1600" spc="-1" strike="noStrike">
                <a:solidFill>
                  <a:srgbClr val="000000"/>
                </a:solidFill>
                <a:latin typeface="Arial"/>
              </a:endParaRPr>
            </a:p>
          </p:txBody>
        </p:sp>
        <p:sp>
          <p:nvSpPr>
            <p:cNvPr id="84" name=""/>
            <p:cNvSpPr/>
            <p:nvPr/>
          </p:nvSpPr>
          <p:spPr>
            <a:xfrm>
              <a:off x="2181600" y="1857240"/>
              <a:ext cx="487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2181600" y="18572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4772160" y="18572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058160" y="18572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 name=""/>
          <p:cNvSpPr/>
          <p:nvPr/>
        </p:nvSpPr>
        <p:spPr>
          <a:xfrm>
            <a:off x="609480" y="603360"/>
            <a:ext cx="8534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Berlin Sans FB"/>
                <a:ea typeface="Times New Roman"/>
              </a:rPr>
              <a:t>¿A quién hay que apoyar y asesorar?</a:t>
            </a:r>
            <a:endParaRPr b="0" lang="en-US" sz="3200" spc="-1" strike="noStrike">
              <a:solidFill>
                <a:srgbClr val="000000"/>
              </a:solidFill>
              <a:latin typeface="Arial"/>
            </a:endParaRPr>
          </a:p>
        </p:txBody>
      </p:sp>
      <p:grpSp>
        <p:nvGrpSpPr>
          <p:cNvPr id="89" name=""/>
          <p:cNvGrpSpPr/>
          <p:nvPr/>
        </p:nvGrpSpPr>
        <p:grpSpPr>
          <a:xfrm>
            <a:off x="1019160" y="4876920"/>
            <a:ext cx="7590240" cy="1731600"/>
            <a:chOff x="1019160" y="4876920"/>
            <a:chExt cx="7590240" cy="1731600"/>
          </a:xfrm>
        </p:grpSpPr>
        <p:sp>
          <p:nvSpPr>
            <p:cNvPr id="90" name=""/>
            <p:cNvSpPr/>
            <p:nvPr/>
          </p:nvSpPr>
          <p:spPr>
            <a:xfrm>
              <a:off x="1019160" y="5181480"/>
              <a:ext cx="1387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Géner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Maestr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Maestros</a:t>
              </a:r>
              <a:endParaRPr b="0" lang="en-US" sz="1600" spc="-1" strike="noStrike">
                <a:solidFill>
                  <a:srgbClr val="000000"/>
                </a:solidFill>
                <a:latin typeface="Arial"/>
              </a:endParaRPr>
            </a:p>
          </p:txBody>
        </p:sp>
        <p:sp>
          <p:nvSpPr>
            <p:cNvPr id="91" name=""/>
            <p:cNvSpPr/>
            <p:nvPr/>
          </p:nvSpPr>
          <p:spPr>
            <a:xfrm>
              <a:off x="6799680" y="4978440"/>
              <a:ext cx="1809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Años de servic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De 1 a 5 añ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De 6 a 1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De 11 a 2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De 21 a 30 ó más</a:t>
              </a:r>
              <a:endParaRPr b="0" lang="en-US" sz="1600" spc="-1" strike="noStrike">
                <a:solidFill>
                  <a:srgbClr val="000000"/>
                </a:solidFill>
                <a:latin typeface="Arial"/>
              </a:endParaRPr>
            </a:p>
          </p:txBody>
        </p:sp>
        <p:sp>
          <p:nvSpPr>
            <p:cNvPr id="92" name=""/>
            <p:cNvSpPr/>
            <p:nvPr/>
          </p:nvSpPr>
          <p:spPr>
            <a:xfrm>
              <a:off x="4399920" y="5054400"/>
              <a:ext cx="184500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Condición labor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Una plaz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Doble plaz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Interin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Comisionado</a:t>
              </a:r>
              <a:endParaRPr b="0" lang="en-US" sz="1600" spc="-1" strike="noStrike">
                <a:solidFill>
                  <a:srgbClr val="000000"/>
                </a:solidFill>
                <a:latin typeface="Arial"/>
              </a:endParaRPr>
            </a:p>
          </p:txBody>
        </p:sp>
        <p:sp>
          <p:nvSpPr>
            <p:cNvPr id="93" name=""/>
            <p:cNvSpPr/>
            <p:nvPr/>
          </p:nvSpPr>
          <p:spPr>
            <a:xfrm>
              <a:off x="1552320" y="4876920"/>
              <a:ext cx="579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552320" y="4876920"/>
              <a:ext cx="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362200" y="48769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7343640" y="48769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2510640" y="5168880"/>
              <a:ext cx="10188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Fun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Docen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Directiv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Asesoría</a:t>
              </a:r>
              <a:endParaRPr b="0" lang="en-US" sz="1600" spc="-1" strike="noStrike">
                <a:solidFill>
                  <a:srgbClr val="000000"/>
                </a:solidFill>
                <a:latin typeface="Arial"/>
              </a:endParaRPr>
            </a:p>
          </p:txBody>
        </p:sp>
        <p:sp>
          <p:nvSpPr>
            <p:cNvPr id="98" name=""/>
            <p:cNvSpPr/>
            <p:nvPr/>
          </p:nvSpPr>
          <p:spPr>
            <a:xfrm>
              <a:off x="2923920" y="48769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 name=""/>
          <p:cNvGrpSpPr/>
          <p:nvPr/>
        </p:nvGrpSpPr>
        <p:grpSpPr>
          <a:xfrm>
            <a:off x="0" y="0"/>
            <a:ext cx="503280" cy="6858000"/>
            <a:chOff x="0" y="0"/>
            <a:chExt cx="503280" cy="6858000"/>
          </a:xfrm>
        </p:grpSpPr>
        <p:sp>
          <p:nvSpPr>
            <p:cNvPr id="100"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rot="10800000">
            <a:off x="5292720" y="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rot="5400000">
            <a:off x="-332640" y="800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5" name=""/>
          <p:cNvGrpSpPr/>
          <p:nvPr/>
        </p:nvGrpSpPr>
        <p:grpSpPr>
          <a:xfrm>
            <a:off x="1576440" y="1268280"/>
            <a:ext cx="6694200" cy="4848480"/>
            <a:chOff x="1576440" y="1268280"/>
            <a:chExt cx="6694200" cy="4848480"/>
          </a:xfrm>
        </p:grpSpPr>
        <p:sp>
          <p:nvSpPr>
            <p:cNvPr id="106" name=""/>
            <p:cNvSpPr/>
            <p:nvPr/>
          </p:nvSpPr>
          <p:spPr>
            <a:xfrm>
              <a:off x="1576440" y="1268280"/>
              <a:ext cx="2072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00"/>
                  </a:solidFill>
                  <a:latin typeface="Gill Sans MT"/>
                </a:rPr>
                <a:t>Necesidad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00"/>
                  </a:solidFill>
                  <a:latin typeface="Gill Sans MT"/>
                </a:rPr>
                <a:t>del sistema</a:t>
              </a:r>
              <a:endParaRPr b="0" lang="en-US" sz="2400" spc="-1" strike="noStrike">
                <a:solidFill>
                  <a:srgbClr val="000000"/>
                </a:solidFill>
                <a:latin typeface="Arial"/>
              </a:endParaRPr>
            </a:p>
          </p:txBody>
        </p:sp>
        <p:sp>
          <p:nvSpPr>
            <p:cNvPr id="107" name=""/>
            <p:cNvSpPr/>
            <p:nvPr/>
          </p:nvSpPr>
          <p:spPr>
            <a:xfrm>
              <a:off x="5759640" y="5291280"/>
              <a:ext cx="2511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00"/>
                  </a:solidFill>
                  <a:latin typeface="Gill Sans MT"/>
                </a:rPr>
                <a:t>Necesidades d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00"/>
                  </a:solidFill>
                  <a:latin typeface="Gill Sans MT"/>
                </a:rPr>
                <a:t>los docentes</a:t>
              </a:r>
              <a:endParaRPr b="0" lang="en-US" sz="2400" spc="-1" strike="noStrike">
                <a:solidFill>
                  <a:srgbClr val="000000"/>
                </a:solidFill>
                <a:latin typeface="Arial"/>
              </a:endParaRPr>
            </a:p>
          </p:txBody>
        </p:sp>
        <p:sp>
          <p:nvSpPr>
            <p:cNvPr id="108" name=""/>
            <p:cNvSpPr/>
            <p:nvPr/>
          </p:nvSpPr>
          <p:spPr>
            <a:xfrm>
              <a:off x="2662200" y="2181240"/>
              <a:ext cx="0" cy="335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357280" y="5229360"/>
              <a:ext cx="3733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814480" y="2181240"/>
              <a:ext cx="60984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176800" y="4695840"/>
              <a:ext cx="609480" cy="38088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744640" y="4729320"/>
              <a:ext cx="609840" cy="380880"/>
            </a:xfrm>
            <a:prstGeom prst="rect">
              <a:avLst/>
            </a:prstGeom>
            <a:solidFill>
              <a:srgbClr val="99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3" name=""/>
          <p:cNvSpPr/>
          <p:nvPr/>
        </p:nvSpPr>
        <p:spPr>
          <a:xfrm>
            <a:off x="609480" y="563400"/>
            <a:ext cx="8534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Berlin Sans FB"/>
                <a:ea typeface="Times New Roman"/>
              </a:rPr>
              <a:t>¿En qué apoyar y asesorar a los docentes?</a:t>
            </a:r>
            <a:endParaRPr b="0" lang="en-US" sz="3200" spc="-1" strike="noStrike">
              <a:solidFill>
                <a:srgbClr val="000000"/>
              </a:solidFill>
              <a:latin typeface="Arial"/>
            </a:endParaRPr>
          </a:p>
        </p:txBody>
      </p:sp>
      <p:grpSp>
        <p:nvGrpSpPr>
          <p:cNvPr id="114" name=""/>
          <p:cNvGrpSpPr/>
          <p:nvPr/>
        </p:nvGrpSpPr>
        <p:grpSpPr>
          <a:xfrm>
            <a:off x="0" y="0"/>
            <a:ext cx="503280" cy="6858000"/>
            <a:chOff x="0" y="0"/>
            <a:chExt cx="503280" cy="6858000"/>
          </a:xfrm>
        </p:grpSpPr>
        <p:sp>
          <p:nvSpPr>
            <p:cNvPr id="115"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rot="10800000">
            <a:off x="5292720" y="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rot="5400000">
            <a:off x="-332640" y="800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592360" y="189000"/>
            <a:ext cx="356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rogramas educativos*</a:t>
            </a:r>
            <a:endParaRPr b="0" lang="en-US" sz="2400" spc="-1" strike="noStrike">
              <a:solidFill>
                <a:srgbClr val="000000"/>
              </a:solidFill>
              <a:latin typeface="Arial"/>
            </a:endParaRPr>
          </a:p>
        </p:txBody>
      </p:sp>
      <p:sp>
        <p:nvSpPr>
          <p:cNvPr id="121" name=""/>
          <p:cNvSpPr/>
          <p:nvPr/>
        </p:nvSpPr>
        <p:spPr>
          <a:xfrm>
            <a:off x="1679040" y="6400800"/>
            <a:ext cx="2901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 </a:t>
            </a:r>
            <a:r>
              <a:rPr b="0" lang="es-ES" sz="800" spc="-1" strike="noStrike">
                <a:solidFill>
                  <a:srgbClr val="000000"/>
                </a:solidFill>
                <a:latin typeface="Arial"/>
              </a:rPr>
              <a:t>informacion del PROIDE (programa  integral de desarrollo)</a:t>
            </a:r>
            <a:endParaRPr b="0" lang="en-US" sz="800" spc="-1" strike="noStrike">
              <a:solidFill>
                <a:srgbClr val="000000"/>
              </a:solidFill>
              <a:latin typeface="Arial"/>
            </a:endParaRPr>
          </a:p>
        </p:txBody>
      </p:sp>
      <p:graphicFrame>
        <p:nvGraphicFramePr>
          <p:cNvPr id="122" name=""/>
          <p:cNvGraphicFramePr/>
          <p:nvPr/>
        </p:nvGraphicFramePr>
        <p:xfrm>
          <a:off x="976320" y="765000"/>
          <a:ext cx="7772400" cy="5919840"/>
        </p:xfrm>
        <a:graphic>
          <a:graphicData uri="http://schemas.openxmlformats.org/drawingml/2006/table">
            <a:tbl>
              <a:tblPr/>
              <a:tblGrid>
                <a:gridCol w="2514600"/>
                <a:gridCol w="1523880"/>
                <a:gridCol w="1932120"/>
                <a:gridCol w="1801800"/>
              </a:tblGrid>
              <a:tr h="66060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Maiandra GD"/>
                        </a:rPr>
                        <a:t>Programas generales</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Maiandra GD"/>
                        </a:rPr>
                        <a:t>Programas regional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Maiandra GD"/>
                        </a:rPr>
                        <a:t>Programas especial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Maiandra GD"/>
                        </a:rPr>
                        <a:t>Proyectos</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59240">
                <a:tc>
                  <a:txBody>
                    <a:bodyPr lIns="90000" rIns="90000" tIns="46800" bIns="46800" anchor="t">
                      <a:noAutofit/>
                    </a:bodyPr>
                    <a:p>
                      <a:pPr marL="190440" indent="-190440">
                        <a:lnSpc>
                          <a:spcPct val="100000"/>
                        </a:lnSpc>
                        <a:spcBef>
                          <a:spcPts val="3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rPr>
                        <a:t>Mejora continua de los servicios educativos y sus resultados.</a:t>
                      </a:r>
                      <a:endParaRPr b="0" lang="en-US" sz="1200" spc="-1" strike="noStrike">
                        <a:solidFill>
                          <a:srgbClr val="000000"/>
                        </a:solidFill>
                        <a:latin typeface="Arial"/>
                      </a:endParaRPr>
                    </a:p>
                    <a:p>
                      <a:pPr marL="190440" indent="-190440">
                        <a:lnSpc>
                          <a:spcPct val="100000"/>
                        </a:lnSpc>
                        <a:spcBef>
                          <a:spcPts val="3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rPr>
                        <a:t>Servicios administrativos de calidad</a:t>
                      </a:r>
                      <a:endParaRPr b="0" lang="en-US" sz="1200" spc="-1" strike="noStrike">
                        <a:solidFill>
                          <a:srgbClr val="000000"/>
                        </a:solidFill>
                        <a:latin typeface="Arial"/>
                      </a:endParaRPr>
                    </a:p>
                    <a:p>
                      <a:pPr marL="190440" indent="-190440">
                        <a:lnSpc>
                          <a:spcPct val="100000"/>
                        </a:lnSpc>
                        <a:spcBef>
                          <a:spcPts val="3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rPr>
                        <a:t>Evaluación institucional</a:t>
                      </a:r>
                      <a:endParaRPr b="0" lang="en-US" sz="1200" spc="-1" strike="noStrike">
                        <a:solidFill>
                          <a:srgbClr val="000000"/>
                        </a:solidFill>
                        <a:latin typeface="Arial"/>
                      </a:endParaRPr>
                    </a:p>
                    <a:p>
                      <a:pPr marL="190440" indent="-190440">
                        <a:lnSpc>
                          <a:spcPct val="100000"/>
                        </a:lnSpc>
                        <a:spcBef>
                          <a:spcPts val="3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rPr>
                        <a:t>Desarrollo educativo indígena</a:t>
                      </a:r>
                      <a:endParaRPr b="0" lang="en-US" sz="1200" spc="-1" strike="noStrike">
                        <a:solidFill>
                          <a:srgbClr val="000000"/>
                        </a:solidFill>
                        <a:latin typeface="Arial"/>
                      </a:endParaRPr>
                    </a:p>
                    <a:p>
                      <a:pPr marL="190440" indent="-190440">
                        <a:lnSpc>
                          <a:spcPct val="100000"/>
                        </a:lnSpc>
                        <a:spcBef>
                          <a:spcPts val="3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rPr>
                        <a:t>Desarrollo de competencias básicas.</a:t>
                      </a:r>
                      <a:endParaRPr b="0" lang="en-US" sz="1200" spc="-1" strike="noStrike">
                        <a:solidFill>
                          <a:srgbClr val="000000"/>
                        </a:solidFill>
                        <a:latin typeface="Arial"/>
                      </a:endParaRPr>
                    </a:p>
                    <a:p>
                      <a:pPr marL="190440" indent="-190440">
                        <a:lnSpc>
                          <a:spcPct val="100000"/>
                        </a:lnSpc>
                        <a:spcBef>
                          <a:spcPts val="3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rPr>
                        <a:t>Vinculación entre niveles educativos</a:t>
                      </a:r>
                      <a:endParaRPr b="0" lang="en-US" sz="1200" spc="-1" strike="noStrike">
                        <a:solidFill>
                          <a:srgbClr val="000000"/>
                        </a:solidFill>
                        <a:latin typeface="Arial"/>
                      </a:endParaRPr>
                    </a:p>
                    <a:p>
                      <a:pPr marL="190440" indent="-190440">
                        <a:lnSpc>
                          <a:spcPct val="100000"/>
                        </a:lnSpc>
                        <a:spcBef>
                          <a:spcPts val="3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rPr>
                        <a:t>Fomento a la cultura empresarial</a:t>
                      </a:r>
                      <a:endParaRPr b="0" lang="en-US" sz="1200" spc="-1" strike="noStrike">
                        <a:solidFill>
                          <a:srgbClr val="000000"/>
                        </a:solidFill>
                        <a:latin typeface="Arial"/>
                      </a:endParaRPr>
                    </a:p>
                    <a:p>
                      <a:pPr marL="190440" indent="-190440">
                        <a:lnSpc>
                          <a:spcPct val="100000"/>
                        </a:lnSpc>
                        <a:spcBef>
                          <a:spcPts val="3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rPr>
                        <a:t>Distribución oportuna de materiales educativos</a:t>
                      </a:r>
                      <a:endParaRPr b="0" lang="en-US" sz="1200" spc="-1" strike="noStrike">
                        <a:solidFill>
                          <a:srgbClr val="000000"/>
                        </a:solidFill>
                        <a:latin typeface="Arial"/>
                      </a:endParaRPr>
                    </a:p>
                    <a:p>
                      <a:pPr marL="190440" indent="-190440">
                        <a:lnSpc>
                          <a:spcPct val="100000"/>
                        </a:lnSpc>
                        <a:spcBef>
                          <a:spcPts val="3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rPr>
                        <a:t>Gestión escolar para todos los niveles educativos</a:t>
                      </a:r>
                      <a:endParaRPr b="0" lang="en-US" sz="1200" spc="-1" strike="noStrike">
                        <a:solidFill>
                          <a:srgbClr val="000000"/>
                        </a:solidFill>
                        <a:latin typeface="Arial"/>
                      </a:endParaRPr>
                    </a:p>
                    <a:p>
                      <a:pPr marL="190440" indent="-190440">
                        <a:lnSpc>
                          <a:spcPct val="100000"/>
                        </a:lnSpc>
                        <a:spcBef>
                          <a:spcPts val="3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rPr>
                        <a:t>Conservación y mantenimientos de espacios educativos</a:t>
                      </a:r>
                      <a:endParaRPr b="0" lang="en-US" sz="1200" spc="-1" strike="noStrike">
                        <a:solidFill>
                          <a:srgbClr val="000000"/>
                        </a:solidFill>
                        <a:latin typeface="Arial"/>
                      </a:endParaRPr>
                    </a:p>
                    <a:p>
                      <a:pPr marL="190440" indent="-190440">
                        <a:lnSpc>
                          <a:spcPct val="100000"/>
                        </a:lnSpc>
                        <a:spcBef>
                          <a:spcPts val="3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rPr>
                        <a:t>Fortalecimiento de los valores humanos</a:t>
                      </a:r>
                      <a:endParaRPr b="0" lang="en-US" sz="1200" spc="-1" strike="noStrike">
                        <a:solidFill>
                          <a:srgbClr val="000000"/>
                        </a:solidFill>
                        <a:latin typeface="Arial"/>
                      </a:endParaRPr>
                    </a:p>
                    <a:p>
                      <a:pPr marL="190440" indent="-190440">
                        <a:lnSpc>
                          <a:spcPct val="100000"/>
                        </a:lnSpc>
                        <a:spcBef>
                          <a:spcPts val="3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rPr>
                        <a:t>Rincones de lectura y escritura para la investigació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Reorganización de las CORD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Instituciones educativas integrador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Desarrollo sustentabl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apacitación para el trabaj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Vinculación escuela-sociedad-empres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Acercamiento a las culturas a través del idiom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Educación a distancia vía satélite y el uso de medios informático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Educación para la vid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Educación para la salu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Alimentario</a:t>
                      </a:r>
                      <a:endParaRPr b="0" lang="en-US" sz="14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Turismo escolar</a:t>
                      </a:r>
                      <a:endParaRPr b="0" lang="en-US" sz="14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Tu y yo jugamos a la ciencia</a:t>
                      </a:r>
                      <a:endParaRPr b="0" lang="en-US" sz="14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uidado y uso del agua</a:t>
                      </a:r>
                      <a:endParaRPr b="0" lang="en-US" sz="14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Quiéreme quiérete</a:t>
                      </a:r>
                      <a:endParaRPr b="0" lang="en-US" sz="14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México sin adicciones</a:t>
                      </a:r>
                      <a:endParaRPr b="0" lang="en-US" sz="14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uida el ambiente</a:t>
                      </a:r>
                      <a:endParaRPr b="0" lang="en-US" sz="14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uida tu vida</a:t>
                      </a:r>
                      <a:endParaRPr b="0" lang="en-US" sz="14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lan y escuelas asociadas a la UNESC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23" name=""/>
          <p:cNvGrpSpPr/>
          <p:nvPr/>
        </p:nvGrpSpPr>
        <p:grpSpPr>
          <a:xfrm>
            <a:off x="0" y="0"/>
            <a:ext cx="503280" cy="6858000"/>
            <a:chOff x="0" y="0"/>
            <a:chExt cx="503280" cy="6858000"/>
          </a:xfrm>
        </p:grpSpPr>
        <p:sp>
          <p:nvSpPr>
            <p:cNvPr id="124"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rot="10800000">
            <a:off x="5292720" y="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rot="5400000">
            <a:off x="-332640" y="800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29" name=""/>
          <p:cNvGraphicFramePr/>
          <p:nvPr/>
        </p:nvGraphicFramePr>
        <p:xfrm>
          <a:off x="755640" y="189000"/>
          <a:ext cx="8229600" cy="6481800"/>
        </p:xfrm>
        <a:graphic>
          <a:graphicData uri="http://schemas.openxmlformats.org/drawingml/2006/table">
            <a:tbl>
              <a:tblPr/>
              <a:tblGrid>
                <a:gridCol w="1922400"/>
                <a:gridCol w="2127240"/>
                <a:gridCol w="2127240"/>
                <a:gridCol w="2052720"/>
              </a:tblGrid>
              <a:tr h="5202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Maiandra GD"/>
                        </a:rPr>
                        <a:t>Programas generale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Maiandra GD"/>
                        </a:rPr>
                        <a:t>Programas regional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Maiandra GD"/>
                        </a:rPr>
                        <a:t>Programas especial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Maiandra GD"/>
                        </a:rPr>
                        <a:t>Proyecto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369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Ver bien para aprender mejor Rincones de lectur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Unidos promovemos la salu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Acercamiento a la cultura a través del idiom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Educación para la salu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rograma alimentari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Hortaliz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Uno a uno (INE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RONALE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revención de enfermedades gastrointestinal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Escuela limpi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Escuela comprometid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USAE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Enseñanza del inglés como segundo idiom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Intercambio lingüístico</a:t>
                      </a:r>
                      <a:r>
                        <a:rPr b="0" lang="es-ES" sz="1400" spc="-1" strike="noStrike">
                          <a:solidFill>
                            <a:srgbClr val="000000"/>
                          </a:solidFill>
                          <a:latin typeface="Maiandra GD"/>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Háblame de tu famili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Desarrollo integral del adolescent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Revitalización e los consejos técnico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onsejos de participación socia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Educación via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Uso racional del agu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arcela escola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ooperativas escolar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Tienda escola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Ampliación de bibliotec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Aseo de la escuel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Turismo educativo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Gestión educativ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Escuela empres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iencia y tecnologí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Feria educativ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alaver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Ofrendas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Hallowwen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Tablas rítmic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Villancico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iñat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Exposición navideñ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Villancico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astorel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Intercambio de regalo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ómo envolver un regalo navideñ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Recetas navideñ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Reyes magos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ara ti qué es la amista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intura infanti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Reseña de la primaver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Día del niñ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Olimpiada del conocimien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Reforestació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Desayunos calient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ruz roj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Lectur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Vacunació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Ampliación de bibliotec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Aseo persona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Bec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Saludos cordial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aludism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Medio ambient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Desfile cívico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Alcoholism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Drogadicció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Salud buca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Tabaquism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uidemos el medio ambient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láticas de rabi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Jornadas de limpiez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30" name=""/>
          <p:cNvGrpSpPr/>
          <p:nvPr/>
        </p:nvGrpSpPr>
        <p:grpSpPr>
          <a:xfrm>
            <a:off x="0" y="0"/>
            <a:ext cx="503280" cy="6858000"/>
            <a:chOff x="0" y="0"/>
            <a:chExt cx="503280" cy="6858000"/>
          </a:xfrm>
        </p:grpSpPr>
        <p:sp>
          <p:nvSpPr>
            <p:cNvPr id="131"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5T19:34:39Z</dcterms:created>
  <dc:creator>ruben</dc:creator>
  <dc:description/>
  <dc:language>en-US</dc:language>
  <cp:lastModifiedBy>ESTRELLA</cp:lastModifiedBy>
  <dcterms:modified xsi:type="dcterms:W3CDTF">2006-08-18T17:18:37Z</dcterms:modified>
  <cp:revision>4</cp:revision>
  <dc:subject/>
  <dc:title>Diapositiva 1</dc:title>
</cp:coreProperties>
</file>